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073-2B18-4492-B93D-FF83773A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ECBA-8B04-41F6-A382-A5010278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5282-31B4-4326-AB40-8BA384B6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5D4-03DC-4ADF-AE78-ECFF12346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4A4EA-0921-45DA-AA59-0D35F49F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A407-96C3-41F6-914C-610DDD91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3311-870C-475B-95AF-91980D5C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DF10-3D93-4A05-8043-B6003E0B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0DA2-459B-48FD-976A-265361DA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B50C-740A-408C-B24E-20CACD6D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4D96-7F27-47BC-8DF4-CC0D386B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EAF-B557-4ABF-960E-5A476D6A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7E26-4502-457F-BFF9-7ECDBEC4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4797A-929F-4F03-A4A1-450AB4F1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43DB-404F-4BF8-B352-85C751E6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DA06-970E-4A78-B3D1-80E03C1B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399E-F26D-4919-85C5-31E1D517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98D-F74C-44F1-AA0D-8009A1C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6B3A-22EB-46B4-BA32-45AF8FDB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0306-700C-4E25-AAEE-7AE6DBF7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403280" y="188640"/>
            <a:ext cx="774072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6A95-644F-48A1-9540-E3FA0AE8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19E5-CC8E-4563-B5B2-2F1ABB71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F485-4F45-4CF8-958D-581184DD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D937-31A8-457F-83A3-D7C15CF7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dae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dae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DF64-B512-4229-B70F-8ECB238758B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" name=""/>
          <p:cNvGraphicFramePr/>
          <p:nvPr/>
        </p:nvGraphicFramePr>
        <p:xfrm>
          <a:off x="250920" y="260280"/>
          <a:ext cx="1079280" cy="107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0280"/>
                    <a:ext cx="1079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7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8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3333cc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6da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ae4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50000">
                    <a:srgbClr val="3333cc"/>
                  </a:gs>
                  <a:gs pos="100000">
                    <a:srgbClr val="c0c0c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ABC6-6487-4E48-A265-20C8DCD705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160" y="5950080"/>
            <a:ext cx="9505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lexander Karpf, CESR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La Co-op                                     3 October 2003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de-DE" sz="1800" spc="-1" strike="noStrike">
                <a:solidFill>
                  <a:srgbClr val="f77a09"/>
                </a:solidFill>
                <a:latin typeface="Times New Roman"/>
              </a:rPr>
              <a:t>Marktmissbrauchsricht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esr.eu/" TargetMode="External"/><Relationship Id="rId2" Type="http://schemas.openxmlformats.org/officeDocument/2006/relationships/hyperlink" Target="mailto:mfilippa@cesr.eu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86920" y="2276280"/>
            <a:ext cx="75438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Hellenic Association for the European law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ssociation Europeene pour le droit Bancaire et Financier </a:t>
            </a:r>
            <a:r>
              <a:rPr b="1" lang="el-GR" sz="2400" spc="-1" strike="noStrike">
                <a:solidFill>
                  <a:srgbClr val="000099"/>
                </a:solidFill>
                <a:latin typeface="Footlight MT Light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AEDB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17 </a:t>
            </a:r>
            <a:r>
              <a:rPr b="1" lang="en-US" sz="2400" spc="-1" strike="noStrike">
                <a:solidFill>
                  <a:srgbClr val="000099"/>
                </a:solidFill>
                <a:latin typeface="Footlight MT Light"/>
              </a:rPr>
              <a:t>October </a:t>
            </a:r>
            <a:r>
              <a:rPr b="1" lang="en-GB" sz="2400" spc="-1" strike="noStrike">
                <a:solidFill>
                  <a:srgbClr val="000099"/>
                </a:solidFill>
                <a:latin typeface="Footlight MT Light"/>
              </a:rPr>
              <a:t>20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99"/>
                </a:solidFill>
                <a:uFillTx/>
                <a:latin typeface="Footlight MT Light"/>
              </a:rPr>
              <a:t>Comparative overview of the measures and sanctions provided in the different Member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ootlight MT Light"/>
              </a:rPr>
              <a:t>Mina Filipp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Legal Advi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Footlight MT Light"/>
              </a:rPr>
              <a:t>Committee of European Securities Regulators (CES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403280" y="241200"/>
            <a:ext cx="77407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Footlight MT Light"/>
              </a:rPr>
              <a:t>Committee of European Securities Regulators</a:t>
            </a:r>
            <a:r>
              <a:rPr b="0" lang="en-GB" sz="1700" spc="-1" strike="noStrike">
                <a:solidFill>
                  <a:srgbClr val="000099"/>
                </a:solidFill>
                <a:latin typeface="Footlight MT Light"/>
              </a:rPr>
              <a:t> </a:t>
            </a:r>
            <a:endParaRPr b="1" lang="en-US" sz="17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16E8-6C90-411F-B414-2E8D51CE9FE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.20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i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7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pecuniary criminal sanction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Germany and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A01-3C1F-4043-9C52-185D8F578D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uthorisa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E917-AADE-4870-9E93-440543F8CD3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Οδηγία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s by the authorities or injunction by the Court to cease the illegal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s of warnings or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ure of the bus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missal of the responsible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1FF-DEC7-4A30-AD1B-F0D2C157404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uthorisation of Investment Fi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.5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Luxembourg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Swe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ulgar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and unlimited in Denmark and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th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Denmark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Bulgaria and Irel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E36-0D0B-438D-B85F-691B130B9D4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5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uthorisation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nd Articles </a:t>
            </a:r>
            <a:r>
              <a:rPr b="0" lang="el-GR" sz="2000" spc="-1" strike="noStrike" u="sng">
                <a:solidFill>
                  <a:srgbClr val="000000"/>
                </a:solidFill>
                <a:uFillTx/>
                <a:latin typeface="Tahoma"/>
              </a:rPr>
              <a:t>16-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MiFID-Operating conditions of Investment Fi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iteria used to determine the 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iousness of the br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ingness to coope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iance his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ancial heal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damage/ha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act on market/inves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fits deri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gree of i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cedents for similar c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A84-0288-45CC-BDA1-070248ABC2A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8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nd not included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D65-0250-46DD-8F37-595389F5093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Footlight MT Light"/>
              </a:rPr>
              <a:t> Investor Pro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n pecuniary administrative fines and meas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drawal of the lic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 by the authority or injunction by the Court to cease the unauthorized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ation of warning or stat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pension of voting righ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6C0-F08D-491E-996A-C6F1A715732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iFI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Article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 16-24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MiFID- Operating Conditions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Footlight MT Light"/>
              </a:rPr>
              <a:t>Investor Pro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inland and Bulgaria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5.352.99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weden and unlimite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6.36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U.K.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.5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F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Norway to 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s in Slovak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027-AE68-4C2A-825A-0F7303A14F1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</a:t>
            </a:r>
            <a:br>
              <a:rPr sz="2600"/>
            </a:b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3</a:t>
            </a: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Prospectus Directive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ministrative measures and sanctions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: 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out of 27 st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cuniary administrative measures 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k the issuer to justify its actions/ to comply with the la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ion or suspension of trading of the issuer’s secu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losure of infractions, issue of public repri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der an audit or change an audi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hibit or suspend advertis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vel of the f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1350 €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Denmark to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 2.500.000 €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France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lgium and Portug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25B-3520-412B-B38E-A6A87E67371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ΙΙΙ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IN CONCLUS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ost cases, both administrative measures and sanctions and criminal sanctions are provided. Criminal sanctions are mostly provided for infringement of provisions arising out of the Market Abuse Directiv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ower to impose administrative measures lies with the administrative competent author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specific non pecuniary measures to be impos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gence with regard to the level of the fines and criminal pecuniary sanctions and the duration of imprisonm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vergence with regard to the criteria used to determine the level of the fin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7F4-AFD4-4D88-B615-C99F404910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720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Overview</a:t>
            </a:r>
            <a:endParaRPr b="1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findings and comparative data regarding measures and sanctions in the different Member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II</a:t>
            </a:r>
            <a:r>
              <a:rPr b="0" lang="el-GR" sz="3200" spc="-1" strike="noStrike">
                <a:solidFill>
                  <a:srgbClr val="000000"/>
                </a:solidFill>
                <a:latin typeface="Footlight MT Light"/>
              </a:rPr>
              <a:t>Ι</a:t>
            </a: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. Main conclu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Footlight MT Light"/>
              </a:rPr>
              <a:t>VI. </a:t>
            </a:r>
            <a:r>
              <a:rPr b="0" lang="en-US" sz="3200" spc="-1" strike="noStrike">
                <a:solidFill>
                  <a:srgbClr val="000000"/>
                </a:solidFill>
                <a:latin typeface="Footlight MT Light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1403280" y="6583320"/>
            <a:ext cx="741672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1197000"/>
            <a:ext cx="71276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DB1-4D64-41AA-9804-DA043E6F420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sanctions efficient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hould sanctions be harmonised around the EU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r competition between jurisdictions or regulatory arbitrag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D6A-F5B1-4237-BC36-95E39562DD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V. QUESTIONS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s contributing to the efficiency of the sanction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rity of the legal and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supervisory mechanis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and efficient investigation proced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Competent Authorities of different Member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peration between the competent authorities and the judicial authorities/ public prosecu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losure of the sanctions (name &amp; sha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E3-113D-49ED-907C-03CB9794DC9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For more information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texts of the mapping exercis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1"/>
              </a:rPr>
              <a:t>www.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  <a:hlinkClick r:id="rId2"/>
              </a:rPr>
              <a:t>mfilippa@cesr.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774-8F9F-4C6E-BDC5-9DDCFE4D075C}" type="slidenum">
              <a:t>2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60240" indent="-660240">
              <a:buClr>
                <a:srgbClr val="000099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Short presentation of CESR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Committee of European Securities’ Regulators was established in 2001 by a decision of the European Commission. It operates in the context of the Lamfalussy proced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9 members: competent authorities of the 27 MS of the EU plus Norway and Icela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purpos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Advising the European Com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Promoting supervisory conver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Enhancing the cooperation between its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524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ooperates with the other two L3 Committees,</a:t>
            </a:r>
            <a:r>
              <a:rPr b="0" lang="el-GR" sz="2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CEBS of the banking sector and CEIOPS of the insurance secto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2DF-FD42-44EE-9941-E9E3355CC87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Ι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has already conducted 3 mapping exercises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Market Abuse Directive 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D)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On MiFID-at a final stage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the Prospectus Directive (PD)- publi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rrently conducting a mapping exercise on the Transparency Directive (T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6B3-2AAA-463F-A648-58EE58508FD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II. INTRODUCTION</a:t>
            </a:r>
            <a:br>
              <a:rPr sz="2200"/>
            </a:b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CESR</a:t>
            </a:r>
            <a:r>
              <a:rPr b="1" lang="el-GR" sz="22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99"/>
                </a:solidFill>
                <a:latin typeface="Tahoma"/>
              </a:rPr>
              <a:t>mapping exercises</a:t>
            </a:r>
            <a:endParaRPr b="1" lang="en-US" sz="2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SR conducted the mapping exercises for 3 reasons: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assess whether its members have equivalent supervisory and sanctioning pow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by the Ecofin and the European Commission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upport the EU-US dialogue on mutual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F21-C8B8-4C10-A78E-D6092DB176D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AD8-8C62-44B9-8216-FE50841EAD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 2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drawal of the authoris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r prohibition of profession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pension of the trading of the relevant financial instr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i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ation of warning or stat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ase of the illegal a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AF4B-0A1D-49A4-9B55-E640DE2DA21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Article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 2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MAD</a:t>
            </a:r>
            <a:r>
              <a:rPr b="0" lang="el-GR" sz="2400" spc="-1" strike="noStrike" u="sng">
                <a:solidFill>
                  <a:srgbClr val="000000"/>
                </a:solidFill>
                <a:uFillTx/>
                <a:latin typeface="Tahoma"/>
              </a:rPr>
              <a:t>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sider Tra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the fines</a:t>
            </a:r>
            <a:r>
              <a:rPr b="1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individuals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25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legal entities on Slovenia to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45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taly or unlimited in the U.K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 of criminal pecuniary sa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1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elgium to 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0.000.000 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reland or unlimited in Germany and in the U.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uration of imprison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in Belgium to 15 years in Latv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127-2A0D-46D3-A9BE-13389697DEE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a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3280" y="188640"/>
            <a:ext cx="774072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II. MAIN FINDINGS-COMPARATIVE DATA </a:t>
            </a:r>
            <a:br>
              <a:rPr sz="2600"/>
            </a:br>
            <a:r>
              <a:rPr b="1" lang="el-GR" sz="26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1" lang="en-US" sz="2600" spc="-1" strike="noStrike">
                <a:solidFill>
                  <a:srgbClr val="000099"/>
                </a:solidFill>
                <a:latin typeface="Tahoma"/>
              </a:rPr>
              <a:t>Market Abuse Directive- MAD</a:t>
            </a:r>
            <a:endParaRPr b="1" lang="en-US" sz="2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Article 5 MAD</a:t>
            </a:r>
            <a:r>
              <a:rPr b="0" lang="el-GR" sz="3200" spc="-1" strike="noStrike" u="sng">
                <a:solidFill>
                  <a:srgbClr val="000000"/>
                </a:solidFill>
                <a:uFillTx/>
                <a:latin typeface="Tahoma"/>
              </a:rPr>
              <a:t>-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rket Manip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 of 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29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 pecuniary administrative measures and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e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iminal pecuniary sanctions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risonment</a:t>
            </a:r>
            <a:r>
              <a:rPr b="0" lang="el-GR" sz="3200" spc="-1" strike="noStrike">
                <a:solidFill>
                  <a:srgbClr val="000000"/>
                </a:solidFill>
                <a:latin typeface="Tahoma"/>
              </a:rPr>
              <a:t>: 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F65-8FE2-4D15-BBDD-4D5862522C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9:55:48Z</dcterms:created>
  <dc:creator>ccomporti</dc:creator>
  <dc:description/>
  <dc:language>en-US</dc:language>
  <cp:lastModifiedBy>g.filippa</cp:lastModifiedBy>
  <dcterms:modified xsi:type="dcterms:W3CDTF">2008-10-22T09:47:09Z</dcterms:modified>
  <cp:revision>196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