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211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43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211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43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DE070-A325-42DF-84FF-4005046A5C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17F4-9ECA-4D46-A56D-958FE81C68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9827-D6FB-452B-ACFB-8C5FA48BBE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59D8-85AF-4210-9DDC-6CCECBA85D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1A44B-9666-479D-B34F-AAA7C2EF69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B8E85-750B-4625-9DFC-6EAAF8E092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3AC7-B7C6-427C-88FD-921FBCC98E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1F959-B3B4-4828-9B4F-73CB1A250F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D2A8C-E922-4D54-AEA8-DA91BE32A6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1720B-9D77-4B9B-82F7-A8C53831033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DDF83-E73D-4B38-AFC1-7B25407DE0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211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94320" y="259056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4479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211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94320" y="4381920"/>
            <a:ext cx="2355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376A-9BC5-4866-9517-1F03AA5FD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47920" y="137124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96600" y="438192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6600" y="2590560"/>
            <a:ext cx="35697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381920"/>
            <a:ext cx="73152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spcBef>
                <a:spcPts val="60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60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447920" y="624852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EDBF – Athens workshop 17 Oct. 2008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BEED199-06C1-4C56-B437-57969013D01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6172200"/>
            <a:ext cx="7315200" cy="0"/>
          </a:xfrm>
          <a:prstGeom prst="line">
            <a:avLst/>
          </a:prstGeom>
          <a:ln w="19080">
            <a:solidFill>
              <a:srgbClr val="0a1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93760" y="333360"/>
            <a:ext cx="8658000" cy="998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1067040" cy="10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21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. </a:t>
            </a:r>
            <a:fld id="{9DDBF622-5AA7-467A-A680-783FCC943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172200"/>
            <a:ext cx="7315200" cy="0"/>
          </a:xfrm>
          <a:prstGeom prst="line">
            <a:avLst/>
          </a:prstGeom>
          <a:ln w="19080">
            <a:solidFill>
              <a:srgbClr val="0a1e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14479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Naam presentatie – Naam maker en/of presentator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/09/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ulte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am Facultei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Dienst of Vakgroep (optione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93760" y="333360"/>
            <a:ext cx="8658000" cy="99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371600"/>
            <a:ext cx="7315200" cy="1447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anctions and measures in banking and capital market law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- Belgian report -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7920" y="3068640"/>
            <a:ext cx="7315200" cy="2951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5f5f"/>
                </a:solidFill>
                <a:latin typeface="Arial"/>
              </a:rPr>
              <a:t>Michel TISON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f5f5f"/>
                </a:solidFill>
                <a:latin typeface="Arial"/>
              </a:rPr>
              <a:t>AEDBF-Belgium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51280" y="4653000"/>
            <a:ext cx="23130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Traditional approach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under EU law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: : Enforcement through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administrative law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 tools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Obligation to designate a “competent authority”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Vested with investigation/sanctioning power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Duty to co-operate with authorities of other M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Details of organisation of “public law” supervision: left over to M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But: “Effectiveness-rule”: measures and sanctions should be “effective, proportionate and dissuasive” (e.g. Art. 14 MA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Legal protection for supervised persons: administrative measures open for review in cour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188280" indent="191520"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Criminal enforcement</a:t>
            </a: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: outside of EU competence (unless essential for combating serious offences: ECJ, Case C-196/03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82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8280" indent="191520"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Private enforcement</a:t>
            </a: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: generally not touched upon in EU regulation, with a few exception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Consumer redress through “collective” action by consumer protecion associations (e.g. Art. 52(2) MiFI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vailability of out-of court dispute settlement mechanisms (e.g Art. 53 MiFID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68800" indent="190080"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rospectuses: MS should apply their liability systems to issuer li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1. The public-private enforcement divid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Under </a:t>
            </a: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Belgian law: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ublic enforcement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dministrative enforcement (CBFA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Ongoing supervision + intervention measur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Administrative sanction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Supervisor has no role to play in private enforcement (&lt;-&gt; UK system: restitution order s. 382-384 FSMA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Criminal enforcement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Within criminal justice system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Private enforcement (liability rules)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Limited specific rules: prospectus liability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No class action availabl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2. Criminal sanctions under Belgian law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Underpin most of the violations of unwanted behaviour and practic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n-authorized financial institu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n-authorized public deposit-taking activity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ublic securities issue without (approved) prospectus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sider dealing – market manipulation etc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Reality: few criminal case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lowness of precedure, lack of specialization of prosecutors and judges etc.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Burden of proof: cf. market abuse: no single (final) criminal conviction in 20 year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ossibility ofr supervisor to react swiftly theough petition for court injunction against offender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1371240"/>
            <a:ext cx="7504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In general: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terrent effect: possibility for supervisor to (re)act swiftly to misbehaviour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General rule: ‘incriminated behaviour is identical as for criminal sanc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But: ‘jurisdiction’ generally restricted to regulated entitie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Exception: market abuse: prohibitions under administrative law regime apply to whoever commits market abuse + no need to prove the actual ‘use’ of inside information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f5f5f"/>
                </a:solidFill>
                <a:latin typeface="Arial"/>
              </a:rPr>
              <a:t>Belgian law regime: mainly shaped after reform of Law 2 August 2002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eparation of functions in enforcement procedure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9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view of sanctions: brought before ‘normal’ court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371240"/>
            <a:ext cx="75758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Separation of functions in administrative procedure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Mandated by need to comply with Art. 6 ECHR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cision to initiate procedure: Board of Directors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On own initiative or upon a complain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vestigation: Independent ‘auditor’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nvestigates ‘à charge’ and ‘à décharg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Final decision on fine: ‘sanctions committee’ within supervisory board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1882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Prosecuted persons have right to be heard before ‘sanctions committe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6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f5f5f"/>
                </a:solidFill>
                <a:latin typeface="Arial"/>
              </a:rPr>
              <a:t>Review by the courts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Court of appeal of Brussel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86480" indent="18972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No mere ‘judicial review’, but full competence to revoke or modify decision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1371240"/>
            <a:ext cx="757584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7280" y="2349360"/>
            <a:ext cx="7575840" cy="36705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f5f5f"/>
                </a:solidFill>
                <a:latin typeface="Arial"/>
              </a:rPr>
              <a:t>Publicity</a:t>
            </a: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 of administrative sanctions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gime inspired by EU market abuse directive: name of offender is diclosed unless it is likely to disrupt the markets or causes disproportionate harm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bate on “naming and shaming”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Reality: no disclosure of names if administrative decision has been appealed in cour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1" marL="190440" indent="19368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5f5f5f"/>
                </a:solidFill>
                <a:latin typeface="Arial"/>
              </a:rPr>
              <a:t>Settlement procedure (introduced in 2007)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Auditor can advise to propose a settlement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Decision on settlement: by board of directors CBFA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If board or addressee refuses to settle: matter is referred to the ‘sanctions committee’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lnSpc>
                <a:spcPct val="80000"/>
              </a:lnSpc>
              <a:spcBef>
                <a:spcPts val="400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5f5f5f"/>
                </a:solidFill>
                <a:latin typeface="Arial"/>
              </a:rPr>
              <a:t>Settlement does not preclude the publicity of the decision 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920" y="1371240"/>
            <a:ext cx="7315200" cy="1143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4d4d4d"/>
                </a:solidFill>
                <a:latin typeface="Arial"/>
              </a:rPr>
              <a:t>3. Administrative sanctions under Belgian law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920" y="2590560"/>
            <a:ext cx="7315200" cy="3429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90440" indent="193680">
              <a:spcBef>
                <a:spcPts val="499"/>
              </a:spcBef>
              <a:buClr>
                <a:srgbClr val="5f5f5f"/>
              </a:buClr>
              <a:buFont typeface="Arial Unicode MS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f5f5f"/>
                </a:solidFill>
                <a:latin typeface="Arial"/>
              </a:rPr>
              <a:t>Cumulation with criminal procedure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499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Administrative fine can be imposed as lang as no decision has been taken in criminal matter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574560" indent="192240">
              <a:spcBef>
                <a:spcPts val="499"/>
              </a:spcBef>
              <a:buClr>
                <a:srgbClr val="5f5f5f"/>
              </a:buClr>
              <a:buFont typeface="Arial Unicode MS"/>
              <a:buChar char="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f5f5f"/>
                </a:solidFill>
                <a:latin typeface="Arial"/>
              </a:rPr>
              <a:t>Non bis in idem</a:t>
            </a:r>
            <a:r>
              <a:rPr b="0" lang="nl-BE" sz="2000" spc="-1" strike="noStrike">
                <a:solidFill>
                  <a:srgbClr val="5f5f5f"/>
                </a:solidFill>
                <a:latin typeface="Arial"/>
              </a:rPr>
              <a:t>: imputation of administrative fine or settlement amount on criminal fine 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1:24:55Z</dcterms:created>
  <dc:creator>Ann Van Driessche</dc:creator>
  <dc:description/>
  <dc:language>en-US</dc:language>
  <cp:lastModifiedBy>Faculteit Rechten</cp:lastModifiedBy>
  <dcterms:modified xsi:type="dcterms:W3CDTF">2008-10-16T16:32:47Z</dcterms:modified>
  <cp:revision>63</cp:revision>
  <dc:subject/>
  <dc:title>PowerPoint-presentatie</dc:title>
</cp:coreProperties>
</file>