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0054-78C0-4486-ADB9-242BFEE7C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39BB-3EBE-4014-88C4-6E12DBE6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B63A-9C4C-4A50-8213-DCD019A0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723-4201-4512-9110-AC95CED9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D22-D950-4BFE-8A59-04E88C8C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275-E097-43CE-91A5-7D50508F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97E3-D6CF-4B78-A74B-BD9E904D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51F-CE4F-4B78-ADE1-2E50FD5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A4D-6DC9-49A7-98B2-AD906C93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1B02-A3BD-4207-9D8A-DBC347B6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982-0B4F-448A-ACC5-9FA76178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649-BBF3-4820-97C6-68C0248A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B593-BFB3-45BD-BC5B-C222F923C859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lrs.lt/" TargetMode="External"/><Relationship Id="rId2" Type="http://schemas.openxmlformats.org/officeDocument/2006/relationships/hyperlink" Target="http://www.lb.lt/" TargetMode="External"/><Relationship Id="rId3" Type="http://schemas.openxmlformats.org/officeDocument/2006/relationships/hyperlink" Target="http://www.lb.lt/" TargetMode="External"/><Relationship Id="rId4" Type="http://schemas.openxmlformats.org/officeDocument/2006/relationships/hyperlink" Target="http://www.lb.lt/" TargetMode="External"/><Relationship Id="rId5" Type="http://schemas.openxmlformats.org/officeDocument/2006/relationships/hyperlink" Target="http://www.lsc.lt/" TargetMode="External"/><Relationship Id="rId6" Type="http://schemas.openxmlformats.org/officeDocument/2006/relationships/hyperlink" Target="http://www.lsc.lt/" TargetMode="External"/><Relationship Id="rId7" Type="http://schemas.openxmlformats.org/officeDocument/2006/relationships/hyperlink" Target="http://www.lsc.lt/" TargetMode="External"/><Relationship Id="rId8" Type="http://schemas.openxmlformats.org/officeDocument/2006/relationships/hyperlink" Target="http://www.dpk.lt/" TargetMode="External"/><Relationship Id="rId9" Type="http://schemas.openxmlformats.org/officeDocument/2006/relationships/hyperlink" Target="http://www.dpk.lt/" TargetMode="External"/><Relationship Id="rId10" Type="http://schemas.openxmlformats.org/officeDocument/2006/relationships/hyperlink" Target="http://www.dpk.lt/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thuania / Lituani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anctions and measures provided in the banking and the capital markets law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intautas Pošiūn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ief Legal Advi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uropean Affairs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nk of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mber of AEDBF and Correspondent in Lithu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-mail: gposiunas@lb.lt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7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028000" y="189000"/>
            <a:ext cx="930240" cy="10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7E07-5D21-4132-AE87-7026862061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thuania / Lituanie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ctions and measures provided in the banking and the capital markets law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elds: National law implementing the following European Council and Parliament Directives as well as respective implementing measures, if any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) MiFID - 2004/39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nd Banking Directive - 2006/48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) Prospectus Directive 2003/71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) Transparency Directive 2004/109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) Market Abuse Directive 2003/6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) UCITS, 85/611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/E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as in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9EA-3496-4948-82B6-AA0FB5475F9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Hierarchy of legal acts in legal system of Lithu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.1. Adaptation of Co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.2. Competences of the Union – integral part of the legal syste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3. Vertical direct effec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4. Horizontal direct effec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5. Directiv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6. Cod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DAC2-DBD9-4906-A773-BF3FEBA327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Financial 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. Supervisory authoritie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2. Law on Financial Institut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3. Law on the Bank of Lithuania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4. Law on Bank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Licensed bank or branch of a foreign bank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presentative office of a foreign bank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oreign bank licensed in a Member State of the European Union and providing financial services in the Republic of Lithuania without establishing a branch or on a branch established in the Republic of Lithuania by a foreign bank licensed in a Member State of the European Union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5. Law on Central Credit Union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6. Law on Credit Un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BFC1-DD94-4B39-B575-EE9438B8D6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Financial services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7. Law on Markets in Financial Instrument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8. Law on Collective Investment Undertaking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9. Law on Accumulation of Pens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0. Law on Supplementary Voluntary Accumulation of Pensions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11. Law on Insurance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B03-E00E-47D4-92F1-A4284E177E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3. Explicit competencies of the European Courts – Article 220 (ex 164) (ex ante 164)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ticle 234 (ex 177) (ex ante 177)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corpore or in common is a legal ground for remedy in the context of any conflict of national law of the Member State of the EU vis-à-vis a Community law.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In future Article 234 of the Treaty establishing the European Community is to be substituted by Article 267 of the Treaty on Functioning of the European Union as of 1 January 2009 provided that the Treaty of Lisbon will enter into force).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medy in case of lack of jurisdiction (foreign law)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medy in case of lack of competence (remedy)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E8A-FDD2-449B-BBED-DAB41306BF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references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t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of Acc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- (12003T002 – effective 1 May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12005SA002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– effective 1 January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ultilateral Vienna Convention on the law of treaties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3 May 1969, No. 18232, United Nations, Treaty Series, vol. 1155</a:t>
            </a:r>
            <a:r>
              <a:rPr b="1" i="1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imas of the Republic of Lithuania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http://www.lrs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Bank of Lithuania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http://www.l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3"/>
              </a:rPr>
              <a:t>b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Lithuanian Securities Commission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5"/>
              </a:rPr>
              <a:t>http://www.l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6"/>
              </a:rPr>
              <a:t>sc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7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Insurance Supervisory Commission, 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8"/>
              </a:rPr>
              <a:t>http://www.</a:t>
            </a:r>
            <a:r>
              <a:rPr b="0" lang="lt-LT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9"/>
              </a:rPr>
              <a:t>dpk</a:t>
            </a:r>
            <a:r>
              <a:rPr b="0" lang="en-GB" sz="16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0"/>
              </a:rPr>
              <a:t>.lt</a:t>
            </a: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7/10/2008, AEDBF Conference, Athe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61D-F64A-4895-A914-04A3A7502E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06:33:38Z</dcterms:created>
  <dc:creator>Gintautas Posiunas</dc:creator>
  <dc:description/>
  <dc:language>en-US</dc:language>
  <cp:lastModifiedBy>d.tsibanoulis</cp:lastModifiedBy>
  <dcterms:modified xsi:type="dcterms:W3CDTF">2008-10-16T14:48:19Z</dcterms:modified>
  <cp:revision>7</cp:revision>
  <dc:subject/>
  <dc:title>Slide 1</dc:title>
</cp:coreProperties>
</file>