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ECD67-56BC-4151-893E-7BFDC3F86A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4128-7FBD-4E8D-9036-91BC031F7F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18A8-827B-4E19-8CBC-AF1A3189E4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67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9528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9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67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9528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FF90B-CF58-438A-A7DB-8CDE7E49A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ACA3-7692-4FCF-83BD-3455F73FB4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EF11-E166-45E9-BEC5-993C2C45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0CE-54F1-4532-A5C6-871CDD2C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D533-C3B6-4250-A188-21DF240C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1B0-270F-41D7-B05F-24DA7252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9640" y="1843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10A4-6BFE-483A-8F2E-F735B3F0E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51ED-9373-4617-8273-5EC0800C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F198-2447-4C92-AE48-D5823A007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2EB1-5EC8-4D83-94BA-C6F064BD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2E33-D6C8-4A6C-8405-FBC16AF4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105-6AD8-448F-B0B5-07FBB88D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592-56A2-4A4B-99A4-6EB968A9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764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795280" y="114300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9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764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795280" y="380988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4FB-F08C-4506-B919-359A4B4CD7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089C-C6AF-4F4E-BBE4-6F270F572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19C7-03AB-40AD-9CB3-99655B48B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EC1F3-15FF-4D34-9D9D-8923BCE490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9640" y="1843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37EB-7AD3-479D-B9B6-4FAD11434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446C8-F79B-4C6C-BF7A-9494B33D2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22320" y="380988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F9C7-51FA-468B-8EEA-66813B4C6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22320" y="114300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9640" y="380988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5146-2ED0-4D55-A2FB-229B01110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2"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3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4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5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6" marL="3240" indent="-324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0360"/>
            <a:ext cx="5678640" cy="90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18360"/>
            <a:ext cx="5791320" cy="539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678640" y="6172200"/>
            <a:ext cx="3465360" cy="685800"/>
          </a:xfrm>
          <a:prstGeom prst="rect">
            <a:avLst/>
          </a:prstGeom>
          <a:solidFill>
            <a:srgbClr val="8a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523800" y="6292440"/>
            <a:ext cx="71928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3EA9-0071-4E34-A180-F7825AB9ADC8}" type="slidenum">
              <a:rPr b="0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3338" b="27685"/>
          <a:stretch/>
        </p:blipFill>
        <p:spPr>
          <a:xfrm>
            <a:off x="6048360" y="6195960"/>
            <a:ext cx="2106720" cy="4730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5678640" cy="2895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318360"/>
            <a:ext cx="5791320" cy="539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78640" y="6172200"/>
            <a:ext cx="3465360" cy="685800"/>
          </a:xfrm>
          <a:prstGeom prst="rect">
            <a:avLst/>
          </a:prstGeom>
          <a:solidFill>
            <a:srgbClr val="8a1d1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31680"/>
            <a:ext cx="525780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8a1d1d"/>
                </a:solidFill>
                <a:latin typeface="Arial"/>
              </a:rPr>
              <a:t>Click to edit the title text format</a:t>
            </a:r>
            <a:endParaRPr b="0" lang="en-US" sz="92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295280" y="6295680"/>
            <a:ext cx="426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8a1d1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8a1d1d"/>
                </a:solidFill>
                <a:latin typeface="Arial"/>
              </a:rPr>
              <a:t>&lt;footer&gt;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 - </a:t>
            </a:r>
            <a:fld id="{21777BDF-B886-4F97-8602-B8D2FAFE9A56}" type="datetime5">
              <a:rPr b="0" lang="fr-FR" sz="800" spc="-1" strike="noStrike">
                <a:solidFill>
                  <a:srgbClr val="000000"/>
                </a:solidFill>
                <a:latin typeface="Arial"/>
              </a:rPr>
              <a:t>28 juil.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3"/>
          </p:nvPr>
        </p:nvSpPr>
        <p:spPr>
          <a:xfrm>
            <a:off x="523800" y="6292440"/>
            <a:ext cx="719280" cy="30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C9B7-B6C3-42B6-B1B3-0B2EAB0C6DDF}" type="slidenum">
              <a:rPr b="0" lang="fr-FR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3338" b="27685"/>
          <a:stretch/>
        </p:blipFill>
        <p:spPr>
          <a:xfrm>
            <a:off x="6048360" y="6195960"/>
            <a:ext cx="210672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4724280" cy="6324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"/>
            <p:cNvSpPr/>
            <p:nvPr/>
          </p:nvSpPr>
          <p:spPr>
            <a:xfrm>
              <a:off x="4572000" y="0"/>
              <a:ext cx="4572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121440"/>
              <a:ext cx="4648320" cy="73656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0" y="5943600"/>
              <a:ext cx="4572000" cy="914400"/>
            </a:xfrm>
            <a:prstGeom prst="rect">
              <a:avLst/>
            </a:prstGeom>
            <a:solidFill>
              <a:srgbClr val="8a1d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16360" y="1341000"/>
            <a:ext cx="41911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800" spc="-1" strike="noStrike">
                <a:solidFill>
                  <a:srgbClr val="8a1d1d"/>
                </a:solidFill>
                <a:latin typeface="Arial"/>
              </a:rPr>
              <a:t>ADMINISTRATIVE </a:t>
            </a:r>
            <a:r>
              <a:rPr b="1" lang="en-US" sz="1800" spc="-1" strike="noStrike">
                <a:solidFill>
                  <a:srgbClr val="8a1d1d"/>
                </a:solidFill>
                <a:latin typeface="Arial"/>
              </a:rPr>
              <a:t>SANCTIONS AND MEASURES IN FRANCE  BY THE AMF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00600" y="33523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a1d1d"/>
              </a:solidFill>
              <a:latin typeface="Arial"/>
            </a:endParaRPr>
          </a:p>
          <a:p>
            <a:pPr marL="32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a1d1d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0" r="3338" b="27685"/>
          <a:stretch/>
        </p:blipFill>
        <p:spPr>
          <a:xfrm>
            <a:off x="5000760" y="5962680"/>
            <a:ext cx="2871720" cy="646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932360" y="4005360"/>
            <a:ext cx="3743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Hubert de VAU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a1d1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4EEC-3C86-45FC-8287-8E707F1F38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A LIMITED INDEMNIFICATION FOR THE INJURED PARTY 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“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oi de modernisation de l’économie” Act (August 4th, 2008): the increase of the quantum of the administrative sanctions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AMF sanctions are intended to protect the financial market and not to repair individual damages caused to the investors by the punished entities.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Coulon Report : give the possibility to investors, acting within the framework of a class action, to eventually use the elements of the investigation led by the AMF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D7389-BC75-4D78-BB32-6EB458177B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AMICABLE SETTLEMENT PROCEEDINGS (1/2) 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70112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A/ Mediation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The Mediation principle is influenced by other jurisdictions like UK where the FSA is able to deliver, in certain circumstances, amicable settlement.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 U.S. Practice (90 % of the stock-exchange cases are settled by transaction)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Pursuant to article L. 621-19 CMF, the AMF is authorised to receive claims relating to matters within its jurisdiction from any interested party and to deal with them appropriately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E817-1EFA-4B0E-AB4E-FA4A42981C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AMICABLE SETTLEMENT PROCEEDINGS (2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640" y="907560"/>
            <a:ext cx="7772400" cy="534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B/ Settlement agreements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ulon Repor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brings up to date the grant of settlement powers to the AMF (it recommends the implementation of new rules that allows AMF to enter into agreement for settlement of claims)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Use in practice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Liability recognition or not by the  party that accepts the payment of the penalty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 way to (secretly) interpret/ develop its own rules?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n instrument which could be used to indemnify market abuse’ victims?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6430-C9B8-4935-ACFE-DC4D767289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TTHE AREA OF THE ADMINISTRATIVE SANCTIONS OF THE AMF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05228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AMF dual enforcement action: disciplinary sanctions and administrative sanctions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application area of the administrative sanctions is established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ccording to the type of the violated rule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according to the author of the viola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Dual enforcement action involves two types of appeal proceedings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brought before two different institutions: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ur d’Appel of Paris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or </a:t>
            </a:r>
            <a:r>
              <a:rPr b="0" i="1" lang="en-US" sz="1500" spc="-1" strike="noStrike">
                <a:solidFill>
                  <a:srgbClr val="8a1d1d"/>
                </a:solidFill>
                <a:latin typeface="Arial"/>
              </a:rPr>
              <a:t>Conseil d’Eta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1145A-A299-4585-9694-8B2F65058D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SANCTION SCHEDULE: </a:t>
            </a:r>
            <a:r>
              <a:rPr b="1" lang="fr-FR" sz="1600" spc="-1" strike="noStrike">
                <a:solidFill>
                  <a:srgbClr val="8a1d1d"/>
                </a:solidFill>
                <a:latin typeface="Arial"/>
              </a:rPr>
              <a:t>R631-31 &amp;…. CMF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General Secretary (“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Secrétaire Général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”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cides to open the investigation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forwards the investigation report to the College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“College” (Enforcement Commission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cides to open the Enforcement Procedure that may lead to sanction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notifies the incriminated facts to the parties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informs the prosecutor of the existence of eventual market abuses and sends him the investigation report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can suspend the activity of the professionals involved in the sanction procedure if they are regulated by AMF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Sanctions Commission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one of its members (appointed as a “rapporteur”) coordinates the due hearing procedur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delivers the sanction, which the Commission may decide to make publi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39F3-2E38-439C-9208-10B099C603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RESPECT OF THE DEFENSE RIGHTS (1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1426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45720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457200" indent="-3380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French Highest Court (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Cour de cassation, chambre commerciale 18 June 1996 and C.E. 3 December 1999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:</a:t>
            </a:r>
            <a:r>
              <a:rPr b="1" i="1" lang="en-US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equivalence of the COB and CMF procedures in the criminal procedure)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95256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 algn="just">
              <a:spcBef>
                <a:spcPts val="3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457200" indent="-338040" algn="just">
              <a:spcBef>
                <a:spcPts val="425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Impartiality Rules (“Principe d’impartialité”).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Conflict of interests and AMF : continuous extension of the scope of AMF’s case law, in this respect which will be treated in the following slides.</a:t>
            </a:r>
            <a:r>
              <a:rPr b="1" lang="en-US" sz="1700" spc="-1" strike="noStrike">
                <a:solidFill>
                  <a:srgbClr val="8a1d1d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0C5A-152A-4B04-BAFB-9C1FFC08A3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RESPECT OF THE DEFENSE RIGHTS (2/2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A/ Constant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evolution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of the sanction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procedure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Reform of the procedure by the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Financial Security Act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 (“Loi de sécurité financière”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aw of December 17, 2007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: the right to challenge the appointment of one of the members of the Commission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Decree of September 2008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: organization of the challenging  proces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B/ Un “unfinished” status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recent reforms are they sufficient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What solutions to preserve the independence of the Commiss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3C82-4367-4C99-8C2A-D090C89C8F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1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61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lvl="2" marL="85392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Conflict of interests and AMF : continuous extension of the scope of AMF’s case law.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Major consequences: the AMF decision may be declared void or condemned by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ECHR court.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-260640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Legal and regulatory grounds of the Rule of Impartiality  - Relevant provisions of the AMF General Regulations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564480" indent="-21708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Article 111-2 of the AMF General Reg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>
              <a:spcBef>
                <a:spcPts val="37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564480" indent="-217080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Article 111-5, §2 of the AMF General Regul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60640" indent="0" algn="just">
              <a:spcBef>
                <a:spcPts val="300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300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spcBef>
                <a:spcPts val="224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a1d1d"/>
              </a:solidFill>
              <a:latin typeface="Arial"/>
            </a:endParaRPr>
          </a:p>
          <a:p>
            <a:pPr marL="26064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a1d1d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079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FBEBD-DE8A-4083-ACA3-4CB65A8AB4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2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ECHR Case law: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In the Piersack cas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The subjective approach refers to the personal impartiality of the judges involve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-32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GB" sz="1500" spc="-1" strike="noStrike">
                <a:solidFill>
                  <a:srgbClr val="8a1d1d"/>
                </a:solidFill>
                <a:latin typeface="Arial"/>
              </a:rPr>
              <a:t>Discussions of the French case law regarding Impartiality rule: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2" marL="5554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cessity to harmonize this case law with others jurisidiction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Rationale of these case laws: is there any clear orientation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ed for a more detailed/specific analysis to assess if impartiality rules have been breached: e.g. does the circumstance that the relevant member of the Enforcement Commission has built the company establishes a lack of impartiality of such member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Is case law compliant to Presumption of Innoncence Princip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lnSpc>
                <a:spcPct val="90000"/>
              </a:lnSpc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en-GB" sz="1500" spc="-1" strike="noStrike">
                <a:solidFill>
                  <a:srgbClr val="8a1d1d"/>
                </a:solidFill>
                <a:latin typeface="Arial"/>
              </a:rPr>
              <a:t>Necessity to clarify level of impartiality required:  CE 30 May 200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5554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0" algn="just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EF78-AA2E-48AB-9FE8-8C2E34F445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a1d1d"/>
                </a:solidFill>
                <a:latin typeface="Arial"/>
              </a:rPr>
              <a:t>IMPARTIALITY / CONFLICTS OF INTEREST (3/3)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-32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Others consequences of the Principle of Impartiality:</a:t>
            </a:r>
            <a:r>
              <a:rPr b="0" lang="fr-FR" sz="1500" spc="-1" strike="noStrike" u="sng">
                <a:solidFill>
                  <a:srgbClr val="8a1d1d"/>
                </a:solidFill>
                <a:uFillTx/>
                <a:latin typeface="Arial"/>
              </a:rPr>
              <a:t> </a:t>
            </a: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Publication of the decision is itself a penalty. (CE 9 November 2007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Lack of proportionality of the penalty may be itself contrary to article 6 of the </a:t>
            </a:r>
            <a:r>
              <a:rPr b="0" lang="en-US" sz="1500" spc="-1" strike="noStrike">
                <a:solidFill>
                  <a:srgbClr val="8a1d1d"/>
                </a:solidFill>
                <a:latin typeface="Arial"/>
              </a:rPr>
              <a:t>ECHR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8a1d1d"/>
                </a:solidFill>
                <a:latin typeface="Arial"/>
              </a:rPr>
              <a:t>This decision is based on the explanation that the publicity of the decision is a matter of public information of the investors and thus of the financial marke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1EE73-61A0-48F9-90DF-0A508B97B7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184320"/>
            <a:ext cx="7772400" cy="380880"/>
          </a:xfrm>
          <a:prstGeom prst="rect">
            <a:avLst/>
          </a:prstGeom>
          <a:noFill/>
          <a:ln w="9360">
            <a:solidFill>
              <a:srgbClr val="8a1d1d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a1d1d"/>
                </a:solidFill>
                <a:latin typeface="Arial"/>
              </a:rPr>
              <a:t>THE RULE «NON BIS IN IDEM»</a:t>
            </a:r>
            <a:endParaRPr b="1" lang="en-US" sz="1600" spc="-1" strike="noStrike">
              <a:solidFill>
                <a:srgbClr val="8a1d1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A market abuse can involve both an administrative sanction and a penalt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4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8a1d1d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Limitation of the addition of the AMF sanctions and the criminal Cour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The cancellation of the AMF decision does not affect the validity of the legal proceedings engaged by the criminal Court in the same case </a:t>
            </a:r>
            <a:r>
              <a:rPr b="1" lang="fr-FR" sz="1500" spc="-1" strike="noStrike">
                <a:solidFill>
                  <a:srgbClr val="8a1d1d"/>
                </a:solidFill>
                <a:latin typeface="Arial"/>
              </a:rPr>
              <a:t>(Cass.Crim., March 1st, 2000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16080" indent="-152640" algn="just">
              <a:spcBef>
                <a:spcPts val="374"/>
              </a:spcBef>
              <a:buClr>
                <a:srgbClr val="8a1d1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8a1d1d"/>
                </a:solidFill>
                <a:latin typeface="Arial"/>
              </a:rPr>
              <a:t>Recommendation n°13 of the "Coulon" Report (February 2008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D0922-03F8-4E6C-8CDA-2A4A80945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9:44Z</dcterms:created>
  <dc:creator>ut0FL1</dc:creator>
  <dc:description/>
  <dc:language>en-US</dc:language>
  <cp:lastModifiedBy>d.tsibanoulis</cp:lastModifiedBy>
  <cp:lastPrinted>2004-04-27T13:45:41Z</cp:lastPrinted>
  <dcterms:modified xsi:type="dcterms:W3CDTF">2008-10-14T08:53:03Z</dcterms:modified>
  <cp:revision>217</cp:revision>
  <dc:subject/>
  <dc:title>Titre de la présentation sur 4 lignes maxim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EmailEntryID">
    <vt:lpwstr>00000000B5C041778B8F2D449CDD17097E238F160700BB2594DA330DC94E8B823BB0E11417C10000000017B10000D92A686FD98C494B80F83313914C88090000170325930000</vt:lpwstr>
  </property>
  <property fmtid="{D5CDD505-2E9C-101B-9397-08002B2CF9AE}" pid="3" name="_EmailStoreID">
    <vt:lpwstr>0000000038A1BB1005E5101AA1BB08002B2A56C200006D737073742E646C6C00000000004E495441F9BFB80100AA0037D96E000000433A5C4F75746C6F6F6B5F446174615C4F75746C6F6F6B2E70737400</vt:lpwstr>
  </property>
  <property fmtid="{D5CDD505-2E9C-101B-9397-08002B2CF9AE}" pid="4" name="_EmailStoreID0">
    <vt:lpwstr>0000000038A1BB1005E5101AA1BB08002B2A56C20000454D534D44422E444C4C00000000000000001B55FA20AA6611CD9BC800AA002FC45A0C00000053455256455230312D504443002F6F3D426F6E6F72614D61696C2F6F753D5072696D6F2067727570706F20616D6D696E69737472617469766F2F636E3D5265636970696</vt:lpwstr>
  </property>
  <property fmtid="{D5CDD505-2E9C-101B-9397-08002B2CF9AE}" pid="5" name="_EmailStoreID1">
    <vt:lpwstr>56E74732F636E3D52466572726574746900</vt:lpwstr>
  </property>
  <property fmtid="{D5CDD505-2E9C-101B-9397-08002B2CF9AE}" pid="6" name="_NewReviewCycle">
    <vt:lpwstr/>
  </property>
  <property fmtid="{D5CDD505-2E9C-101B-9397-08002B2CF9AE}" pid="7" name="_ReviewCycleID">
    <vt:r8>-1445632612</vt:r8>
  </property>
  <property fmtid="{D5CDD505-2E9C-101B-9397-08002B2CF9AE}" pid="8" name="_TentativeReviewCycleID">
    <vt:r8>-1445632612</vt:r8>
  </property>
</Properties>
</file>