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E7AD-6629-4D5E-B13A-A24D2173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BFBE-8A93-4B31-ACA0-CB06BF0B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36F9-3870-408A-9787-FEA3907D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3572-7AC0-4C30-A796-141D6D77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F87-EB8E-4A90-AD0A-D08082C1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1597-D707-4A80-B893-5A5D69B8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337-07A9-46A4-AA38-3F09B9FC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FF7-1FBA-479D-B80A-AF2B9D07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599-B983-4117-A676-E6C84109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3D9-3A68-4E12-9DA0-2382D919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063-E915-4AC0-B9E5-E923B338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2AD-3A6E-4D3C-8B06-A4C7D81C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442D-8CD8-4BAC-8479-9F8CD1739EBF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rs.lt/" TargetMode="External"/><Relationship Id="rId2" Type="http://schemas.openxmlformats.org/officeDocument/2006/relationships/hyperlink" Target="http://www.lb.lt/" TargetMode="External"/><Relationship Id="rId3" Type="http://schemas.openxmlformats.org/officeDocument/2006/relationships/hyperlink" Target="http://www.lb.lt/" TargetMode="External"/><Relationship Id="rId4" Type="http://schemas.openxmlformats.org/officeDocument/2006/relationships/hyperlink" Target="http://www.lb.lt/" TargetMode="External"/><Relationship Id="rId5" Type="http://schemas.openxmlformats.org/officeDocument/2006/relationships/hyperlink" Target="http://www.lsc.lt/" TargetMode="External"/><Relationship Id="rId6" Type="http://schemas.openxmlformats.org/officeDocument/2006/relationships/hyperlink" Target="http://www.lsc.lt/" TargetMode="External"/><Relationship Id="rId7" Type="http://schemas.openxmlformats.org/officeDocument/2006/relationships/hyperlink" Target="http://www.lsc.lt/" TargetMode="External"/><Relationship Id="rId8" Type="http://schemas.openxmlformats.org/officeDocument/2006/relationships/hyperlink" Target="http://www.dpk.lt/" TargetMode="External"/><Relationship Id="rId9" Type="http://schemas.openxmlformats.org/officeDocument/2006/relationships/hyperlink" Target="http://www.dpk.lt/" TargetMode="External"/><Relationship Id="rId10" Type="http://schemas.openxmlformats.org/officeDocument/2006/relationships/hyperlink" Target="http://www.dpk.lt/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thuania / Lituani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anctions and measures provided in the banking and the capital markets la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intautas Pošiūn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ief Legal Advi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uropean Affairs 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nk of Lithu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mber of AEDBF and Correspondent in Lithu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gposiunas@lb.lt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028000" y="189000"/>
            <a:ext cx="930240" cy="10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A3C-CD84-41B2-AAF3-316410FEEF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thuania / Lituanie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nctions and measures provided in the banking and the capital markets law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elds: National law implementing the following European Council and Parliament Directives as well as respective implementing measures, if any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) MiFID - 2004/39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Banking Directive - 2006/48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) Prospectus Directive 2003/71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) Transparency Directive 2004/109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) Market Abuse Directive 2003/6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) UCITS, 85/611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E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in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1F4-4D71-4DC0-971B-30B51427A5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Hierarchy of legal acts in legal system of Lithu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1.1. Adaptation of Co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1.2. Competences of the Union – integral part of the legal syste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3. Vertical direct effec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4. Horizontal direct effec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5. Directive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6. Code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F32-0005-48CC-8DF5-C049A70E29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Financial service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1. Supervisory authoritie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2. Law on Financial Institution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3. Law on the Bank of Lithuania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4. Law on Bank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Licensed bank or branch of a foreign bank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presentative office of a foreign bank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oreign bank licensed in a Member State of the European Union and providing financial services in the Republic of Lithuania without establishing a branch or on a branch established in the Republic of Lithuania by a foreign bank licensed in a Member State of the European Union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5. Law on Central Credit Union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6. Law on Credit Union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A18-207E-446D-949F-40FCE93FC2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Financial service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7. Law on Markets in Financial Instrument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8. Law on Collective Investment Undertaking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9. Law on Accumulation of Pension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10. Law on Supplementary Voluntary Accumulation of Pension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11. Law on Insurance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63C9-1C75-4960-8A2D-9CD30ADC61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Explicit competencies of the European Courts – Article 220 (ex 164) (ex ante 164)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ticle 234 (ex 177) (ex ante 177)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corpore or in common is a legal ground for remedy in the context of any conflict of national law of the Member State of the EU vis-à-vis a Community law.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In future Article 234 of the Treaty establishing the European Community is to be substituted by Article 267 of the Treaty on Functioning of the European Union as of 1 January 2009 provided that the Treaty of Lisbon will enter into force).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medy in case of lack of jurisdiction (foreign law)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medy in case of lack of competence (remedy)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083-6214-4C58-B6CE-B54F8F3AD4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ist of references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 of Acc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- (12003T002 – effective 1 May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- (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12005SA002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 – effective 1 January 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ultilateral Vienna Convention on the law of treaties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3 May 1969, No. 18232, United Nations, Treaty Series, vol. 1155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imas of the Republic of Lithuania,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http://www.lrs.l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Bank of Lithuania,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http://www.l</a:t>
            </a:r>
            <a:r>
              <a:rPr b="0" lang="lt-LT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b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/>
              </a:rPr>
              <a:t>.l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Lithuanian Securities Commission,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5"/>
              </a:rPr>
              <a:t>http://www.l</a:t>
            </a:r>
            <a:r>
              <a:rPr b="0" lang="lt-LT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6"/>
              </a:rPr>
              <a:t>sc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7"/>
              </a:rPr>
              <a:t>.l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Insurance Supervisory Commission,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8"/>
              </a:rPr>
              <a:t>http://www.</a:t>
            </a:r>
            <a:r>
              <a:rPr b="0" lang="lt-LT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9"/>
              </a:rPr>
              <a:t>dpk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0"/>
              </a:rPr>
              <a:t>.l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4E1D-7D31-4054-AFD6-A53A00FBFE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06:33:38Z</dcterms:created>
  <dc:creator>Gintautas Posiunas</dc:creator>
  <dc:description/>
  <dc:language>en-US</dc:language>
  <cp:lastModifiedBy>d.tsibanoulis</cp:lastModifiedBy>
  <dcterms:modified xsi:type="dcterms:W3CDTF">2008-10-16T14:48:19Z</dcterms:modified>
  <cp:revision>7</cp:revision>
  <dc:subject/>
  <dc:title>Slide 1</dc:title>
</cp:coreProperties>
</file>