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11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43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11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43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C2D7-A07A-446C-8AFD-5A1765A83A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B007-3AB2-4E5A-843D-D534F13DD1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CA38-47DA-4563-82B7-731940F753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9D52-A436-457B-8959-DE4BB248B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CD46-A8BB-4395-9477-90E2CB8F18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F117-F93D-486B-B13C-E88C3834C5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393D-9FA4-4F4D-A7FC-3E047CFD86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E244-F0F2-47E6-BE2B-1ACDF7C53D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17E9-22BD-4B37-84A6-0445BD151F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1E17-F6B5-4E9D-9873-8272997C3B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D11F-3B56-4B91-B2BD-9DCB3F3F3B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211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43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479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211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43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1B4E-6CFC-4474-8578-CEFBAE2B91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spcBef>
                <a:spcPts val="60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60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44792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EDBF – Athens workshop 17 Oct. 2008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31EABF-0366-4C59-8A78-3F4FB0B21EF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6172200"/>
            <a:ext cx="7315200" cy="0"/>
          </a:xfrm>
          <a:prstGeom prst="line">
            <a:avLst/>
          </a:prstGeom>
          <a:ln w="19080">
            <a:solidFill>
              <a:srgbClr val="0a1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93760" y="333360"/>
            <a:ext cx="8658000" cy="998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1067040" cy="10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. </a:t>
            </a:r>
            <a:fld id="{338C3C14-5487-45F3-BE07-D46BEB6B2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172200"/>
            <a:ext cx="7315200" cy="0"/>
          </a:xfrm>
          <a:prstGeom prst="line">
            <a:avLst/>
          </a:prstGeom>
          <a:ln w="19080">
            <a:solidFill>
              <a:srgbClr val="0a1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4479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Naam presentatie – Naam maker en/of presentator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/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ulte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am Facultei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Dienst of Vakgroep (optione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3760" y="333360"/>
            <a:ext cx="8658000" cy="9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731520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anctions and measures in banking and capital market law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- Belgian report -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920" y="3068640"/>
            <a:ext cx="7315200" cy="2951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5f5f"/>
                </a:solidFill>
                <a:latin typeface="Arial"/>
              </a:rPr>
              <a:t>Michel TIS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5f5f"/>
                </a:solidFill>
                <a:latin typeface="Arial"/>
              </a:rPr>
              <a:t>AEDBF-Belgium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51280" y="4653000"/>
            <a:ext cx="23130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Traditional approach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under EU law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: : Enforcement through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administrative law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 tool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Obligation to designate a “competent authority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Vested with investigation/sanctioning power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Duty to co-operate with authorities of other M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Details of organisation of “public law” supervision: left over to M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But: “Effectiveness-rule”: measures and sanctions should be “effective, proportionate and dissuasive” (e.g. Art. 14 MA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Legal protection for supervised persons: administrative measures open for review in cour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88280" indent="191520"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Criminal enforcement</a:t>
            </a: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: outside of EU competence (unless essential for combating serious offences: ECJ, Case C-196/0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8280" indent="191520"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Private enforcement</a:t>
            </a: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: generally not touched upon in EU regulation, with a few exception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Consumer redress through “collective” action by consumer protecion associations (e.g. Art. 52(2) MiFI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vailability of out-of court dispute settlement mechanisms (e.g Art. 53 MiFI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rospectuses: MS should apply their liability systems to issuer liabi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Under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Belgian law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ublic enforcement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dministrative enforcement (CBFA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Ongoing supervision + intervention measur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dministrative sanction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Supervisor has no role to play in private enforcement (&lt;-&gt; UK system: restitution order s. 382-384 FSMA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Criminal enforcemen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Within criminal justice system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rivate enforcement (liability rules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Limited specific rules: prospectus liabi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No class action availabl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2. Criminal sanctions under Belgian law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Underpin most of the violations of unwanted behaviour and practi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n-authorized financial institu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n-authorized public deposit-taking activity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ublic securities issue without (approved) prospectus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sider dealing – market manipulation et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Reality: few criminal cas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lowness of precedure, lack of specialization of prosecutors and judges etc.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Burden of proof: cf. market abuse: no single (final) criminal conviction in 20 year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ossibility ofr supervisor to react swiftly theough petition for court injunction against offender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1371240"/>
            <a:ext cx="7504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In general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terrent effect: possibility for supervisor to (re)act swiftly to misbehaviour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General rule: ‘incriminated behaviour is identical as for criminal sanc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But: ‘jurisdiction’ generally restricted to regulated entiti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Exception: market abuse: prohibitions under administrative law regime apply to whoever commits market abuse + no need to prove the actual ‘use’ of inside information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Belgian law regime: mainly shaped after reform of Law 2 August 2002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eparation of functions in enforcement procedure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view of sanctions: brought before ‘normal’ court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371240"/>
            <a:ext cx="757584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Separation of functions in administrative procedur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Mandated by need to comply with Art. 6 ECHR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cision to initiate procedure: Board of Directors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On own initiative or upon a complain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vestigation: Independent ‘auditor’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vestigates ‘à charge’ and ‘à décharg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Final decision on fine: ‘sanctions committee’ within supervisory board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rosecuted persons have right to be heard before ‘sanctions committe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Review by the court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Court of appeal of Brussel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 mere ‘judicial review’, but full competence to revoke or modify decision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371240"/>
            <a:ext cx="757584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575840" cy="367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f5f5f"/>
                </a:solidFill>
                <a:latin typeface="Arial"/>
              </a:rPr>
              <a:t>Publicity</a:t>
            </a: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 of administrative sanc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gime inspired by EU market abuse directive: name of offender is diclosed unless it is likely to disrupt the markets or causes disproportionate har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bate on “naming and shaming”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ality: no disclosure of names if administrative decision has been appealed in cour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f5f5f"/>
                </a:solidFill>
                <a:latin typeface="Arial"/>
              </a:rPr>
              <a:t>Settlement procedure (introduced in 200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Auditor can advise to propose a settlemen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cision on settlement: by board of directors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f board or addressee refuses to settle: matter is referred to the ‘sanctions committe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ettlement does not preclude the publicity of the decision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193680">
              <a:spcBef>
                <a:spcPts val="499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Cumulation with criminal procedu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499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Administrative fine can be imposed as lang as no decision has been taken in criminal matt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499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5f5f5f"/>
                </a:solidFill>
                <a:latin typeface="Arial"/>
              </a:rPr>
              <a:t>Non bis in idem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: imputation of administrative fine or settlement amount on criminal fine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1:24:55Z</dcterms:created>
  <dc:creator>Ann Van Driessche</dc:creator>
  <dc:description/>
  <dc:language>en-US</dc:language>
  <cp:lastModifiedBy>Faculteit Rechten</cp:lastModifiedBy>
  <dcterms:modified xsi:type="dcterms:W3CDTF">2008-10-16T16:32:47Z</dcterms:modified>
  <cp:revision>63</cp:revision>
  <dc:subject/>
  <dc:title>PowerPoint-presentatie</dc:title>
</cp:coreProperties>
</file>