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C95C-7E12-4351-9272-B96ABEA98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E33D-8CE4-45FB-9668-287AC1BDF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F0F7-DF58-4D0E-B36F-C4EBF5027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EA9C-E723-4B85-B6A6-86918D91B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7DDD3-3B96-4DCE-95FE-E3AA1B37A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DB981-2C97-403C-BBC5-A9E8258CC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6EAD1-51F3-4270-97A5-17DDB199F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CCE78-77EF-4BC8-B3C2-67775F490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9FCB0-334D-4FE0-A11D-57707211D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403280" y="188640"/>
            <a:ext cx="774072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D6705-09B0-4E3C-AF40-0E979C7B4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FE57F-B032-4910-BAB0-8F7C60C29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1DA3-0A56-4AE1-BBA4-BBCA60F6C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5E234-EFC9-486B-BD82-58C8E1FA1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5B2BF-823C-431B-97E4-059493C39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4FE47-B57F-43D0-B85A-C10F825CC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DE740-ABCE-4C3B-B45E-0082DA078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7FE30-501C-411D-894E-E9FDB6DC2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C2F9-48BA-471D-9A8A-C7FA6F063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3CFC-BE0F-4C50-81A6-8ED8288E9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55AC-1388-4E1A-B234-3BB48403E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1403280" y="188640"/>
            <a:ext cx="774072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E3A0-3627-4933-A772-49C75FFF1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C020-90F0-484A-B24C-865F6568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3F01-63F3-43E8-A9BC-DB8C76C15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CEE6-951A-4AF8-9509-593F8448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6dae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dae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C989F-AE5B-4593-AF3A-3F1A0736AF4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" name=""/>
          <p:cNvGraphicFramePr/>
          <p:nvPr/>
        </p:nvGraphicFramePr>
        <p:xfrm>
          <a:off x="250920" y="260280"/>
          <a:ext cx="1079280" cy="107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260280"/>
                    <a:ext cx="107928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7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8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50000">
                  <a:srgbClr val="3333cc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0C180-5579-4882-956D-E4650E3644F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0160" y="5950080"/>
            <a:ext cx="95058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lexander Karpf, CESR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                     La Co-op                                     3 October 2003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de-DE" sz="1800" spc="-1" strike="noStrike">
                <a:solidFill>
                  <a:srgbClr val="f77a09"/>
                </a:solidFill>
                <a:latin typeface="Times New Roman"/>
              </a:rPr>
              <a:t>Marktmissbrauchsrichtli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esr.eu/" TargetMode="External"/><Relationship Id="rId2" Type="http://schemas.openxmlformats.org/officeDocument/2006/relationships/hyperlink" Target="mailto:mfilippa@cesr.eu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186920" y="2276280"/>
            <a:ext cx="75438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Footlight MT Light"/>
              </a:rPr>
              <a:t>Hellenic Association for the European law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Footlight MT Light"/>
              </a:rPr>
              <a:t>Association Europeene pour le droit Bancaire et Financier </a:t>
            </a:r>
            <a:r>
              <a:rPr b="1" lang="el-GR" sz="2400" spc="-1" strike="noStrike">
                <a:solidFill>
                  <a:srgbClr val="000099"/>
                </a:solidFill>
                <a:latin typeface="Footlight MT Light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Footlight MT Light"/>
              </a:rPr>
              <a:t>AEDB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Footlight MT Light"/>
              </a:rPr>
              <a:t>17 </a:t>
            </a:r>
            <a:r>
              <a:rPr b="1" lang="en-US" sz="2400" spc="-1" strike="noStrike">
                <a:solidFill>
                  <a:srgbClr val="000099"/>
                </a:solidFill>
                <a:latin typeface="Footlight MT Light"/>
              </a:rPr>
              <a:t>October </a:t>
            </a:r>
            <a:r>
              <a:rPr b="1" lang="en-GB" sz="2400" spc="-1" strike="noStrike">
                <a:solidFill>
                  <a:srgbClr val="000099"/>
                </a:solidFill>
                <a:latin typeface="Footlight MT Light"/>
              </a:rPr>
              <a:t>20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Footlight MT Light"/>
              </a:rPr>
              <a:t>Comparative overview of the measures and sanctions provided in the different Member St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Footlight MT Light"/>
              </a:rPr>
              <a:t>Mina Filipp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Footlight MT Light"/>
              </a:rPr>
              <a:t>Legal Advis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Footlight MT Light"/>
              </a:rPr>
              <a:t>Committee of European Securities Regulators (CES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1403280" y="241200"/>
            <a:ext cx="77407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Footlight MT Light"/>
              </a:rPr>
              <a:t>Committee of European Securities Regulators</a:t>
            </a:r>
            <a:r>
              <a:rPr b="0" lang="en-GB" sz="1700" spc="-1" strike="noStrike">
                <a:solidFill>
                  <a:srgbClr val="000099"/>
                </a:solidFill>
                <a:latin typeface="Footlight MT Light"/>
              </a:rPr>
              <a:t> </a:t>
            </a:r>
            <a:endParaRPr b="1" lang="en-US" sz="17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1692360" y="1197000"/>
            <a:ext cx="712764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9169-0472-4884-B3B2-B7BA120C3D5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II. MAIN FINDINGS-COMPARATIVE DATA </a:t>
            </a:r>
            <a:br>
              <a:rPr sz="2600"/>
            </a:br>
            <a:r>
              <a:rPr b="1" lang="el-GR" sz="2600" spc="-1" strike="noStrike">
                <a:solidFill>
                  <a:srgbClr val="000099"/>
                </a:solidFill>
                <a:latin typeface="Tahoma"/>
              </a:rPr>
              <a:t>1. </a:t>
            </a: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Market Abuse Directive- MAD</a:t>
            </a: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rticle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Tahoma"/>
              </a:rPr>
              <a:t> 5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 MAD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Tahoma"/>
              </a:rPr>
              <a:t>-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Market manip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evel of fines</a:t>
            </a:r>
            <a:r>
              <a:rPr b="1" lang="el-GR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 1.200 €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individuals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 125.000 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legal entities in Slovenia to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 75.000.000 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taly or unlimited in the U.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evel of pecuniary criminal sanctions</a:t>
            </a:r>
            <a:r>
              <a:rPr b="1" lang="el-GR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10.000 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elgium to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 15.000.000 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taly or unlimited in Germany and the U.K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uration of imprison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 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Luxembourg to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 15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s in Latv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EA24-13D8-49DA-80A2-64E7E70DB0A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II. MAIN FINDINGS-COMPARATIVE DATA </a:t>
            </a:r>
            <a:br>
              <a:rPr sz="2600"/>
            </a:br>
            <a:r>
              <a:rPr b="1" lang="el-GR" sz="2600" spc="-1" strike="noStrike">
                <a:solidFill>
                  <a:srgbClr val="000099"/>
                </a:solidFill>
                <a:latin typeface="Tahoma"/>
              </a:rPr>
              <a:t>2. </a:t>
            </a: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MiFID</a:t>
            </a: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Article</a:t>
            </a:r>
            <a:r>
              <a:rPr b="0" lang="el-GR" sz="3200" spc="-1" strike="noStrike" u="sng">
                <a:solidFill>
                  <a:srgbClr val="000000"/>
                </a:solidFill>
                <a:uFillTx/>
                <a:latin typeface="Tahoma"/>
              </a:rPr>
              <a:t> 5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 MiFID</a:t>
            </a:r>
            <a:r>
              <a:rPr b="0" lang="el-GR" sz="3200" spc="-1" strike="noStrike" u="sng">
                <a:solidFill>
                  <a:srgbClr val="000000"/>
                </a:solidFill>
                <a:uFillTx/>
                <a:latin typeface="Tahoma"/>
              </a:rPr>
              <a:t>-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Authorisat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t of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28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s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land not included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 pecuniary administrative measures and sanctions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: 2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es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: 2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riminal pecuniary sanctions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: 2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risonment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: 2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A978-3C11-4D13-BDEE-CA611C19B27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II. MAIN FINDINGS-COMPARATIVE DATA </a:t>
            </a:r>
            <a:br>
              <a:rPr sz="2600"/>
            </a:br>
            <a:r>
              <a:rPr b="1" lang="el-GR" sz="2600" spc="-1" strike="noStrike">
                <a:solidFill>
                  <a:srgbClr val="000099"/>
                </a:solidFill>
                <a:latin typeface="Tahoma"/>
              </a:rPr>
              <a:t>2. Οδηγία </a:t>
            </a: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MiFID</a:t>
            </a: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Article</a:t>
            </a:r>
            <a:r>
              <a:rPr b="0" lang="el-GR" sz="2800" spc="-1" strike="noStrike" u="sng">
                <a:solidFill>
                  <a:srgbClr val="000000"/>
                </a:solidFill>
                <a:uFillTx/>
                <a:latin typeface="Tahoma"/>
              </a:rPr>
              <a:t> 5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 MiFID</a:t>
            </a:r>
            <a:r>
              <a:rPr b="0" lang="el-GR" sz="2800" spc="-1" strike="noStrike" u="sng">
                <a:solidFill>
                  <a:srgbClr val="000000"/>
                </a:solidFill>
                <a:uFillTx/>
                <a:latin typeface="Tahoma"/>
              </a:rPr>
              <a:t>-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Authori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on pecuniary administrative measures and sa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s by the authorities or injunction by the Court to cease the illegal a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drawal of the lic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ations of warnings or stat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i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ure of the busi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missal of the responsible manag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7F31-54E1-43DA-9EB9-BBC30946C1B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II. MAIN FINDINGS-COMPARATIVE DATA </a:t>
            </a:r>
            <a:br>
              <a:rPr sz="2600"/>
            </a:br>
            <a:r>
              <a:rPr b="1" lang="el-GR" sz="2600" spc="-1" strike="noStrike">
                <a:solidFill>
                  <a:srgbClr val="000099"/>
                </a:solidFill>
                <a:latin typeface="Tahoma"/>
              </a:rPr>
              <a:t>2. </a:t>
            </a: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MiFID</a:t>
            </a: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rticle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Tahoma"/>
              </a:rPr>
              <a:t> 5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 MiFID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Tahoma"/>
              </a:rPr>
              <a:t>-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uthorisation of Investment Fir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evel of fines</a:t>
            </a:r>
            <a:r>
              <a:rPr b="1" lang="el-GR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 12.500 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Luxembourg to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5.352.990 €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Swed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evel of criminal pecuniary sa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5.000 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ulgaria to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10.000.000 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elgium and unlimited in Denmark and the U.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uration of impris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 4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nths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Denmark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ax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 1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s in Bulgaria and Irel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FC5C-932E-4B41-9DE7-3F37F279F8D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II. MAIN FINDINGS-COMPARATIVE DATA </a:t>
            </a:r>
            <a:br>
              <a:rPr sz="2600"/>
            </a:br>
            <a:r>
              <a:rPr b="1" lang="el-GR" sz="2600" spc="-1" strike="noStrike">
                <a:solidFill>
                  <a:srgbClr val="000099"/>
                </a:solidFill>
                <a:latin typeface="Tahoma"/>
              </a:rPr>
              <a:t>2. </a:t>
            </a: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MiFID</a:t>
            </a: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Article</a:t>
            </a:r>
            <a:r>
              <a:rPr b="0" lang="el-GR" sz="2000" spc="-1" strike="noStrike" u="sng">
                <a:solidFill>
                  <a:srgbClr val="000000"/>
                </a:solidFill>
                <a:uFillTx/>
                <a:latin typeface="Tahoma"/>
              </a:rPr>
              <a:t> 5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 MiFID</a:t>
            </a:r>
            <a:r>
              <a:rPr b="0" lang="el-GR" sz="2000" spc="-1" strike="noStrike" u="sng">
                <a:solidFill>
                  <a:srgbClr val="000000"/>
                </a:solidFill>
                <a:uFillTx/>
                <a:latin typeface="Tahoma"/>
              </a:rPr>
              <a:t>-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Authorisation</a:t>
            </a:r>
            <a:r>
              <a:rPr b="0" lang="el-GR" sz="20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and Articles </a:t>
            </a:r>
            <a:r>
              <a:rPr b="0" lang="el-GR" sz="2000" spc="-1" strike="noStrike" u="sng">
                <a:solidFill>
                  <a:srgbClr val="000000"/>
                </a:solidFill>
                <a:uFillTx/>
                <a:latin typeface="Tahoma"/>
              </a:rPr>
              <a:t>16-24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 MiFID-Operating conditions of Investment Fir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riteria used to determine the level of the f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iousness of the brea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ingness to coope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iance hist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nancial heal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damage/har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act on market/inves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fits deri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gree of i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ecedents for similar ca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134E-1A88-4B71-B9DB-732E2C82D8B4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II. MAIN FINDINGS-COMPARATIVE DATA </a:t>
            </a:r>
            <a:br>
              <a:rPr sz="2600"/>
            </a:br>
            <a:r>
              <a:rPr b="1" lang="el-GR" sz="2600" spc="-1" strike="noStrike">
                <a:solidFill>
                  <a:srgbClr val="000099"/>
                </a:solidFill>
                <a:latin typeface="Tahoma"/>
              </a:rPr>
              <a:t>2. </a:t>
            </a: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MiFID</a:t>
            </a: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Footlight MT Light"/>
              </a:rPr>
              <a:t>Articles</a:t>
            </a:r>
            <a:r>
              <a:rPr b="0" lang="el-GR" sz="2800" spc="-1" strike="noStrike" u="sng">
                <a:solidFill>
                  <a:srgbClr val="000000"/>
                </a:solidFill>
                <a:uFillTx/>
                <a:latin typeface="Footlight MT Light"/>
              </a:rPr>
              <a:t> 16-24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Footlight MT Light"/>
              </a:rPr>
              <a:t>MiFID- Operating conditions</a:t>
            </a:r>
            <a:r>
              <a:rPr b="0" lang="el-GR" sz="2800" spc="-1" strike="noStrike" u="sng">
                <a:solidFill>
                  <a:srgbClr val="000000"/>
                </a:solidFill>
                <a:uFillTx/>
                <a:latin typeface="Footlight MT Light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Footlight MT Light"/>
              </a:rPr>
              <a:t>Investor pro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28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s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nd not included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 pecuniary administrative measures and sanctions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: 2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es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: 2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iminal pecuniary sanctions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: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isonment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: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9572-19E7-4B98-9820-F28D5FA82E71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II. MAIN FINDINGS-COMPARATIVE DATA </a:t>
            </a:r>
            <a:br>
              <a:rPr sz="2600"/>
            </a:br>
            <a:r>
              <a:rPr b="1" lang="el-GR" sz="2600" spc="-1" strike="noStrike">
                <a:solidFill>
                  <a:srgbClr val="000099"/>
                </a:solidFill>
                <a:latin typeface="Tahoma"/>
              </a:rPr>
              <a:t>2. </a:t>
            </a: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MiFID</a:t>
            </a: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Footlight MT Light"/>
              </a:rPr>
              <a:t>Articles</a:t>
            </a:r>
            <a:r>
              <a:rPr b="0" lang="el-GR" sz="2800" spc="-1" strike="noStrike" u="sng">
                <a:solidFill>
                  <a:srgbClr val="000000"/>
                </a:solidFill>
                <a:uFillTx/>
                <a:latin typeface="Footlight MT Light"/>
              </a:rPr>
              <a:t> 16-24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Footlight MT Light"/>
              </a:rPr>
              <a:t>MiFID- Operating Conditions</a:t>
            </a:r>
            <a:r>
              <a:rPr b="0" lang="el-GR" sz="2800" spc="-1" strike="noStrike" u="sng">
                <a:solidFill>
                  <a:srgbClr val="000000"/>
                </a:solidFill>
                <a:uFillTx/>
                <a:latin typeface="Footlight MT Light"/>
              </a:rPr>
              <a:t>/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Footlight MT Light"/>
              </a:rPr>
              <a:t> Investor Pro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on pecuniary administrative fines and meas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drawal of the lic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 by the authority or injunction by the Court to cease the unauthorized a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ation of warning or stat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pension of voting righ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2D4D-988E-4659-AE8B-33958BA35E5A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II. MAIN FINDINGS-COMPARATIVE DATA </a:t>
            </a:r>
            <a:br>
              <a:rPr sz="2600"/>
            </a:br>
            <a:r>
              <a:rPr b="1" lang="el-GR" sz="2600" spc="-1" strike="noStrike">
                <a:solidFill>
                  <a:srgbClr val="000099"/>
                </a:solidFill>
                <a:latin typeface="Tahoma"/>
              </a:rPr>
              <a:t>2. </a:t>
            </a: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MiFID</a:t>
            </a: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Footlight MT Light"/>
              </a:rPr>
              <a:t>Articles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Footlight MT Light"/>
              </a:rPr>
              <a:t> 16-24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Footlight MT Light"/>
              </a:rPr>
              <a:t>MiFID- Operating Conditions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Footlight MT Light"/>
              </a:rPr>
              <a:t>/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Footlight MT Light"/>
              </a:rPr>
              <a:t>Investor Pro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evel of the f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 10.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€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Finland and Bulgaria to max 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5.352.990 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weden and unlimited in the U.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evel of criminal pecuniary sa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6.360 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the U.K. to max 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1.500.000 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F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uration of impris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 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in Norway to max 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s in Slovak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608E-A0B6-4C7F-BAB0-C7A2D13D2D1A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II. MAIN FINDINGS-COMPARATIVE DATA</a:t>
            </a:r>
            <a:br>
              <a:rPr sz="2600"/>
            </a:b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3</a:t>
            </a:r>
            <a:r>
              <a:rPr b="1" lang="el-GR" sz="2600" spc="-1" strike="noStrike">
                <a:solidFill>
                  <a:srgbClr val="000099"/>
                </a:solidFill>
                <a:latin typeface="Tahoma"/>
              </a:rPr>
              <a:t>. </a:t>
            </a: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Prospectus Directive</a:t>
            </a: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ministrative measures and sanctions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: 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 out of 27 st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on pecuniary administrative measures </a:t>
            </a:r>
            <a:r>
              <a:rPr b="1" lang="el-GR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k the issuer to justify its actions/ to comply with the la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hibition or suspension of trading of the issuer’s secur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closure of infractions, issue of public repri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der an audit or change an audi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hibit or suspend advertis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evel of the f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x 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1350 €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Denmark to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 2.500.000 €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France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lgium and Portug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B4AA-22BC-402B-ADDC-D458F8E8D54D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0099"/>
                </a:solidFill>
                <a:latin typeface="Tahoma"/>
              </a:rPr>
              <a:t>ΙΙΙ. </a:t>
            </a: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MAIN CONCLUSIONS</a:t>
            </a: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ost cases, both administrative measures and sanctions and criminal sanctions are provided. Criminal sanctions are mostly provided for infringement of provisions arising out of the Market Abuse Directive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power to impose administrative measures lies with the administrative competent author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vergence with regard to the specific non pecuniary measures to be impos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vergence with regard to the level of the fines and criminal pecuniary sanctions and the duration of imprisonmen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vergence with regard to the criteria used to determine the level of the fine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3CFF-D83C-4357-981B-7792C6E3C3B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02920" y="188640"/>
            <a:ext cx="720108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Overview</a:t>
            </a:r>
            <a:endParaRPr b="1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Footlight MT Light"/>
              </a:rPr>
              <a:t>Ι. 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Footlight MT Light"/>
              </a:rPr>
              <a:t>I</a:t>
            </a:r>
            <a:r>
              <a:rPr b="0" lang="el-GR" sz="3200" spc="-1" strike="noStrike">
                <a:solidFill>
                  <a:srgbClr val="000000"/>
                </a:solidFill>
                <a:latin typeface="Footlight MT Light"/>
              </a:rPr>
              <a:t>Ι</a:t>
            </a:r>
            <a:r>
              <a:rPr b="0" lang="de-AT" sz="3200" spc="-1" strike="noStrike">
                <a:solidFill>
                  <a:srgbClr val="000000"/>
                </a:solidFill>
                <a:latin typeface="Footlight MT Light"/>
              </a:rPr>
              <a:t>. Main findings and comparative data regarding measures and sanctions in the different Member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Footlight MT Light"/>
              </a:rPr>
              <a:t>II</a:t>
            </a:r>
            <a:r>
              <a:rPr b="0" lang="el-GR" sz="3200" spc="-1" strike="noStrike">
                <a:solidFill>
                  <a:srgbClr val="000000"/>
                </a:solidFill>
                <a:latin typeface="Footlight MT Light"/>
              </a:rPr>
              <a:t>Ι</a:t>
            </a:r>
            <a:r>
              <a:rPr b="0" lang="de-AT" sz="3200" spc="-1" strike="noStrike">
                <a:solidFill>
                  <a:srgbClr val="000000"/>
                </a:solidFill>
                <a:latin typeface="Footlight MT Light"/>
              </a:rPr>
              <a:t>. Main conclu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Footlight MT Light"/>
              </a:rPr>
              <a:t>VI. 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Ques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1403280" y="6583320"/>
            <a:ext cx="741672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92360" y="1197000"/>
            <a:ext cx="712764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9BC4-A9B0-48B8-A138-BB2EF8733520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IV. QUESTIONS</a:t>
            </a: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sanctions efficient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Should sanctions be harmonised around the EU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air competition between jurisdictions or regulatory arbitrag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4EDB-7028-4FF0-A580-66DE77EE0E09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IV. QUESTIONS</a:t>
            </a: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actors contributing to the efficiency of the sanction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rity of the legal and regulatory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supervisory mechanis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and efficient investigation proced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operation between Competent Authorities of different Member St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operation between the competent authorities and the judicial authorities/ public prosecu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losure of the sanctions (name &amp; sham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CE10-9E29-4209-A9BC-980BBC45616B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For more information</a:t>
            </a: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ll texts of the mapping exercises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Tahoma"/>
                <a:hlinkClick r:id="rId1"/>
              </a:rPr>
              <a:t>www.cesr.e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stions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Tahoma"/>
                <a:hlinkClick r:id="rId2"/>
              </a:rPr>
              <a:t>mfilippa@cesr.e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2FDD-2D52-4973-BAAA-97B5B7F64DCA}" type="slidenum">
              <a:t>2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60240" indent="-660240">
              <a:buClr>
                <a:srgbClr val="000099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INTRODUCTION</a:t>
            </a:r>
            <a:br>
              <a:rPr sz="2600"/>
            </a:br>
            <a:r>
              <a:rPr b="1" lang="el-GR" sz="2600" spc="-1" strike="noStrike">
                <a:solidFill>
                  <a:srgbClr val="000099"/>
                </a:solidFill>
                <a:latin typeface="Tahoma"/>
              </a:rPr>
              <a:t>1. </a:t>
            </a: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Short presentation of CESR</a:t>
            </a: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 Committee of European Securities’ Regulators was established in 2001 by a decision of the European Commission. It operates in the context of the Lamfalussy proced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29 members: competent authorities of the 27 MS of the EU plus Norway and Icelan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ts purpos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- Advising the European Com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- Promoting supervisory converg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- Enhancing the cooperation between its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 algn="just">
              <a:lnSpc>
                <a:spcPct val="80000"/>
              </a:lnSpc>
              <a:spcBef>
                <a:spcPts val="524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Cooperates with the other two L3 Committees,</a:t>
            </a:r>
            <a:r>
              <a:rPr b="0" lang="el-GR" sz="2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CEBS of the banking sector and CEIOPS of the insurance sector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A024-1EC0-4F87-B8AB-7BD0C99EB93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200" spc="-1" strike="noStrike">
                <a:solidFill>
                  <a:srgbClr val="000099"/>
                </a:solidFill>
                <a:latin typeface="Tahoma"/>
              </a:rPr>
              <a:t>Ι. </a:t>
            </a:r>
            <a:r>
              <a:rPr b="1" lang="en-US" sz="2200" spc="-1" strike="noStrike">
                <a:solidFill>
                  <a:srgbClr val="000099"/>
                </a:solidFill>
                <a:latin typeface="Tahoma"/>
              </a:rPr>
              <a:t>INTRODUCTION</a:t>
            </a:r>
            <a:br>
              <a:rPr sz="2200"/>
            </a:br>
            <a:r>
              <a:rPr b="1" lang="el-GR" sz="2200" spc="-1" strike="noStrike">
                <a:solidFill>
                  <a:srgbClr val="000099"/>
                </a:solidFill>
                <a:latin typeface="Tahoma"/>
              </a:rPr>
              <a:t>2. </a:t>
            </a:r>
            <a:r>
              <a:rPr b="1" lang="en-US" sz="2200" spc="-1" strike="noStrike">
                <a:solidFill>
                  <a:srgbClr val="000099"/>
                </a:solidFill>
                <a:latin typeface="Tahoma"/>
              </a:rPr>
              <a:t>CESR</a:t>
            </a:r>
            <a:r>
              <a:rPr b="1" lang="el-GR" sz="2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0099"/>
                </a:solidFill>
                <a:latin typeface="Tahoma"/>
              </a:rPr>
              <a:t>Mapping Exercises</a:t>
            </a:r>
            <a:endParaRPr b="1" lang="en-US" sz="2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SR has already conducted 3 mapping exercises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the Market Abuse Directive 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D)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 On MiFID-at a final stage 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the Prospectus Directive (PD)- publi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rrently conducting a mapping exercise on the Transparency Directive (T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4523-B330-4A25-B4D5-6CF2E9C1B55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Tahoma"/>
              </a:rPr>
              <a:t>II. INTRODUCTION</a:t>
            </a:r>
            <a:br>
              <a:rPr sz="2200"/>
            </a:br>
            <a:r>
              <a:rPr b="1" lang="el-GR" sz="2200" spc="-1" strike="noStrike">
                <a:solidFill>
                  <a:srgbClr val="000099"/>
                </a:solidFill>
                <a:latin typeface="Tahoma"/>
              </a:rPr>
              <a:t>2. </a:t>
            </a:r>
            <a:r>
              <a:rPr b="1" lang="en-US" sz="2200" spc="-1" strike="noStrike">
                <a:solidFill>
                  <a:srgbClr val="000099"/>
                </a:solidFill>
                <a:latin typeface="Tahoma"/>
              </a:rPr>
              <a:t>CESR</a:t>
            </a:r>
            <a:r>
              <a:rPr b="1" lang="el-GR" sz="2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0099"/>
                </a:solidFill>
                <a:latin typeface="Tahoma"/>
              </a:rPr>
              <a:t>mapping exercises</a:t>
            </a:r>
            <a:endParaRPr b="1" lang="en-US" sz="2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SR conducted the mapping exercises for 3 reasons: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assess whether its members have equivalent supervisory and sanctioning pow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by the Ecofin and the European Commission 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upport the EU-US dialogue on mutual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5B52-5A86-4BDA-B50D-C415270FBC3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II. MAIN FINDINGS-COMPARATIVE DATA </a:t>
            </a:r>
            <a:br>
              <a:rPr sz="2600"/>
            </a:br>
            <a:r>
              <a:rPr b="1" lang="el-GR" sz="2600" spc="-1" strike="noStrike">
                <a:solidFill>
                  <a:srgbClr val="000099"/>
                </a:solidFill>
                <a:latin typeface="Tahoma"/>
              </a:rPr>
              <a:t>1. </a:t>
            </a: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Market Abuse Directive-MAD</a:t>
            </a: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Article 2</a:t>
            </a:r>
            <a:r>
              <a:rPr b="0" lang="el-GR" sz="3200" spc="-1" strike="noStrike" u="sng">
                <a:solidFill>
                  <a:srgbClr val="000000"/>
                </a:solidFill>
                <a:uFillTx/>
                <a:latin typeface="Tahoma"/>
              </a:rPr>
              <a:t>-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Insider Tra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t of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29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s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 pecuniary administrative measures and sanctions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: 2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es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: 2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riminal pecuniary sanctions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: 2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risonment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: 2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9792-36D3-483E-9BA6-489C4C315FC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II. MAIN FINDINGS-COMPARATIVE DATA </a:t>
            </a:r>
            <a:br>
              <a:rPr sz="2600"/>
            </a:br>
            <a:r>
              <a:rPr b="1" lang="el-GR" sz="2600" spc="-1" strike="noStrike">
                <a:solidFill>
                  <a:srgbClr val="000099"/>
                </a:solidFill>
                <a:latin typeface="Tahoma"/>
              </a:rPr>
              <a:t>1. </a:t>
            </a: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Market Abuse Directive- MAD</a:t>
            </a: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rticle 2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Tahoma"/>
              </a:rPr>
              <a:t>-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Insider Tra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n pecuniary administrative measures and sa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pension of the authoris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drawal of the authoris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pension or prohibition of professional a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pension of the trading of the relevant financial instr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ri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ation of warning or stat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ase of the illegal a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14AA-C4EF-4E1F-BC5A-7C10577C74E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II. MAIN FINDINGS-COMPARATIVE DATA </a:t>
            </a:r>
            <a:br>
              <a:rPr sz="2600"/>
            </a:br>
            <a:r>
              <a:rPr b="1" lang="el-GR" sz="2600" spc="-1" strike="noStrike">
                <a:solidFill>
                  <a:srgbClr val="000099"/>
                </a:solidFill>
                <a:latin typeface="Tahoma"/>
              </a:rPr>
              <a:t>1. </a:t>
            </a: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Market Abuse Directive- MAD</a:t>
            </a: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rticle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Tahoma"/>
              </a:rPr>
              <a:t> 2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 MAD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Tahoma"/>
              </a:rPr>
              <a:t>-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Insider Tra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evel of the fines</a:t>
            </a:r>
            <a:r>
              <a:rPr b="1" lang="el-GR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0 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€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individuals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 125.000 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legal entities on Slovenia to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 45.000.000 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taly or unlimited in the U.K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evel of criminal pecuniary sa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10.000 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elgium to max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 10.000.000 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reland or unlimited in Germany and in the U.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uration of imprison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 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in Belgium to 15 years in Latv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6975-2905-467C-AC48-6B9A9541BF5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II. MAIN FINDINGS-COMPARATIVE DATA </a:t>
            </a:r>
            <a:br>
              <a:rPr sz="2600"/>
            </a:br>
            <a:r>
              <a:rPr b="1" lang="el-GR" sz="2600" spc="-1" strike="noStrike">
                <a:solidFill>
                  <a:srgbClr val="000099"/>
                </a:solidFill>
                <a:latin typeface="Tahoma"/>
              </a:rPr>
              <a:t>1. </a:t>
            </a: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Market Abuse Directive- MAD</a:t>
            </a: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Article 5 MAD</a:t>
            </a:r>
            <a:r>
              <a:rPr b="0" lang="el-GR" sz="3200" spc="-1" strike="noStrike" u="sng">
                <a:solidFill>
                  <a:srgbClr val="000000"/>
                </a:solidFill>
                <a:uFillTx/>
                <a:latin typeface="Tahoma"/>
              </a:rPr>
              <a:t>-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Market Manipu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t of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29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s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 pecuniary administrative measures and sanctions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: 2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es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: 2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riminal pecuniary sanctions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: 2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risonment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: 2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2084-739E-4D12-BF55-2D78AEFACF5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5T09:55:48Z</dcterms:created>
  <dc:creator>ccomporti</dc:creator>
  <dc:description/>
  <dc:language>en-US</dc:language>
  <cp:lastModifiedBy>g.filippa</cp:lastModifiedBy>
  <dcterms:modified xsi:type="dcterms:W3CDTF">2008-10-22T09:47:09Z</dcterms:modified>
  <cp:revision>196</cp:revision>
  <dc:subject/>
  <dc:title>Diapositiv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