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20.xml" ContentType="application/vnd.openxmlformats-officedocument.presentationml.comments+xml"/>
  <Override PartName="/ppt/comments/comment27.xml" ContentType="application/vnd.openxmlformats-officedocument.presentationml.comments+xml"/>
  <Override PartName="/ppt/comments/comment8.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s/comment26.xml" ContentType="application/vnd.openxmlformats-officedocument.presentationml.comments+xml"/>
  <Override PartName="/ppt/comments/comment9.xml" ContentType="application/vnd.openxmlformats-officedocument.presentationml.comments+xml"/>
  <Override PartName="/ppt/comments/comment16.xml" ContentType="application/vnd.openxmlformats-officedocument.presentationml.comments+xml"/>
  <Override PartName="/ppt/comments/comment10.xml" ContentType="application/vnd.openxmlformats-officedocument.presentationml.comments+xml"/>
  <Override PartName="/ppt/comments/comment12.xml" ContentType="application/vnd.openxmlformats-officedocument.presentationml.comments+xml"/>
  <Override PartName="/ppt/comments/comment17.xml" ContentType="application/vnd.openxmlformats-officedocument.presentationml.comments+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72275" cy="9902825"/>
</p:presentation>
</file>

<file path=ppt/commentAuthors.xml><?xml version="1.0" encoding="utf-8"?>
<p:cmAuthorLst xmlns:p="http://schemas.openxmlformats.org/presentationml/2006/main">
  <p:cmAuthor id="1" name="Colin Jamieson" initials="CJ" lastIdx="1" clrIdx="1"/>
  <p:cmAuthor id="0" name="JamiesonC" initials="J" lastIdx="29"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0.xml><?xml version="1.0" encoding="utf-8"?>
<p:cmLst xmlns:p="http://schemas.openxmlformats.org/presentationml/2006/main">
  <p:cm authorId="0" dt="2008-10-08T17:50:58.530000000" idx="12">
    <p:pos x="1566" y="2277"/>
    <p:text>The FSA believes an approach that is based less on detailed rules and that focuses more on outcomes will allow it to achieve its regulatory objectives in a more efficient and effective way
The FSA regards the increased emphasis on the Principles for Businees as a development of its current approach rather than a fundamental change of direction</p:text>
  </p:cm>
  <p:cm authorId="0" dt="2008-10-08T17:51:28.376000000" idx="13">
    <p:pos x="1622" y="3413"/>
    <p:text>The Principles for Businesses
1 Integrity
A firm must conduct its business with integrity
2 Skill, care and diligence
A firm must conduct its business with due skill, care and diligence
3 Management and control
A firm must take reasonable care to organise and control its affairs responsibly and effectively, with adequate risk management systems
4 Financial prudence 
A firm must maintain adequate financial resources
5 Market conduct
A firm must observe proper standards of market conduct
6 Customers' interests
A firm must pay due regard to the interests of its customers and treat them fairly
7 Communications with clients
A firm must pay due regard to the information needs of its clients, and communicate information to them in a way which is clear, fair and not misleading
8 Conflicts of interest
A firm must manage conflicts of interest fairly, both between itself and its customers and between a customer and another client
9 Customers: relationships of trust
A firm must take reasonable care to ensure the suitability of its advice and discretionary decisions for any customer who is entitled to rely upon its judgment
10 Clients' assets
A firm must arrange adequate protection for clients' assets when it is responsible for them
11 Relations with regulators
A firm must deal with its regulators in an open and cooperative way, and must disclose to the FSA appropriately anything relating to the firm of which the FSA would reasonably expect notice
</p:text>
  </p:cm>
</p:cmLst>
</file>

<file path=ppt/comments/comment11.xml><?xml version="1.0" encoding="utf-8"?>
<p:cmLst xmlns:p="http://schemas.openxmlformats.org/presentationml/2006/main">
  <p:cm authorId="0" dt="2008-10-08T17:54:19.828000000" idx="14">
    <p:pos x="4095" y="1903"/>
    <p:text>The person to whom a warning notice or supervisory notice is given has a right to make representations on the FSA's proposed decision</p:text>
  </p:cm>
  <p:cm authorId="0" dt="2008-10-08T17:54:45.921000000" idx="15">
    <p:pos x="4425" y="2435"/>
    <p:text>The Regulatory Decision Committee (RDC) is an FSA Board committee that is appointed by, and accountable to, the FSA Board for its decisions generally</p:text>
  </p:cm>
  <p:cm authorId="0" dt="2008-10-08T18:42:49.193000000" idx="16">
    <p:pos x="5075" y="3124"/>
    <p:text>A reference must normally be made within 28 days of the date the person receives the disputed decision notice
After the 28-day period has elapsed the Tribunal can be asked to extend the time limit explaining the reasons for the delay</p:text>
  </p:cm>
</p:cmLst>
</file>

<file path=ppt/comments/comment12.xml><?xml version="1.0" encoding="utf-8"?>
<p:cmLst xmlns:p="http://schemas.openxmlformats.org/presentationml/2006/main">
  <p:cm authorId="0" dt="2008-10-08T19:01:34.387000000" idx="17">
    <p:pos x="4621" y="1409"/>
    <p:text>Procedure before the Tribunal is regulated by the Financial Services and Markets Tribunal Rules 2001
</p:text>
  </p:cm>
  <p:cm authorId="0" dt="2008-10-08T19:01:38.715000000" idx="18">
    <p:pos x="4764" y="3385"/>
    <p:text>The Tribunal's permission may be applied for either orally at the hearing if the decision is announced by the Tribunal or in writing to the Tribunal within 14 days after the decision is sent to person concerned</p:text>
  </p:cm>
</p:cmLst>
</file>

<file path=ppt/comments/comment16.xml><?xml version="1.0" encoding="utf-8"?>
<p:cmLst xmlns:p="http://schemas.openxmlformats.org/presentationml/2006/main">
  <p:cm authorId="0" dt="2008-10-08T17:59:47.717000000" idx="19">
    <p:pos x="3152" y="1132"/>
    <p:text>DIRECTIVE 2004/39/EC OF THE EUROPEAN PARLIAMENT AND OF THE COUNCIL of 21 April 2004 on markets in financial instruments amending Council Directives 85/611/EEC and 93/6/EEC and Directive 2000/12/EC of the European Parliament and of the Council and repealing Council Directive 93/22/EEC
Amended by:
Directive 2006/31/EC of the European Parliament and of the Council of 5 April 2006
Directive 2007/44/EC of the European Parliament and of the Council of 5 September 2007
Directive 2008/10/EC of the European Parliament and of the Council of 11 March 2008
</p:text>
  </p:cm>
  <p:cm authorId="0" dt="2008-10-08T18:00:04.997000000" idx="20">
    <p:pos x="3272" y="1604"/>
    <p:text>DIRECTIVE 2006/48/EC OF THE EUROPEAN PARLIAMENT AND OF THE COUNCIL of 14 June 2006
relating to the taking up and pursuit of the business of credit institutions (recast)
Amended by:
Commission Directive 2007/18/EC of 27 March 2007
Directive 2007/44/EC of the European Parliament and of the Council of 5 September 2007
Directive 2007/64/EC of the European Parliament and of the Council of 13 November 2007
Directive 2008/24/EC of the European Parliament and of the Council of 11 March 2008</p:text>
  </p:cm>
  <p:cm authorId="0" dt="2008-10-08T18:00:20.558000000" idx="21">
    <p:pos x="3453" y="2054"/>
    <p:text>DIRECTIVE 2003/71/EC OF THE EUROPEAN PARLIAMENT AND OF THE COUNCIL of 4 November 2003
on the prospectus to be published when securities are offered to the public or admitted to trading and amending Directive 2001/34/EC
Amended by:
Directive 2008/11/EC of the European Parliament and of the Council of 11 March 2008</p:text>
  </p:cm>
  <p:cm authorId="0" dt="2008-10-08T18:00:37.479000000" idx="22">
    <p:pos x="3828" y="2511"/>
    <p:text>DIRECTIVE 2004/109/EC OF THE EUROPEAN PARLIAMENT AND OF THE COUNCIL of 15 December 2004
on the harmonisation of transparency requirements in relation to information about issuers whose securities are admitted to trading on a regulated market and amending Directive 2001/34/EC
Amended by:
Directive 2008/22/EC of the European Parliament and of the Council of 11 March 2008</p:text>
  </p:cm>
  <p:cm authorId="0" dt="2008-10-08T18:00:53.790000000" idx="23">
    <p:pos x="3672" y="2990"/>
    <p:text>DIRECTIVE 2003/6/EC OF THE EUROPEAN PARLIAMENT AND OF THE COUNCIL of 28 January 2003 on insider dealing and market manipulation (market abuse)
Amended by:
Directive 2008/26/EC of the European Parliament and of the Council of 11 March 2008</p:text>
  </p:cm>
  <p:cm authorId="0" dt="2008-10-08T18:01:10.008000000" idx="24">
    <p:pos x="3029" y="3439"/>
    <p:text>COUNCIL DIRECTIVE of 20 December 1985
on the coordination of laws, regulations and administrative provisions relating to undertakings for collective investment in transferable securities (UCITS) (85/611/EEC)
Amended by:
Council Directive 88/220/EEC of 22 March 1988
European Parliament and Council Directive 95/26/EC of 29 June 1995
Directive 2000/64/EC of the European Parliament and of the Council of 7 November 2000
Directive 2001/107/EC of the European Parliament and of the Council of 21 January 2002
Directive 2001/108/EC of the European Parliament and of the Council of 21 January 2002
Directive 2004/39/EC of the European Parliament and of the Council of 21 April 2004
Directive 2005/1/EC of the European Parliament and of the Council of 9 March 2005
Directive 2008/18/EC of the European Parliament and of the Council of 11 March 2008</p:text>
  </p:cm>
</p:cmLst>
</file>

<file path=ppt/comments/comment17.xml><?xml version="1.0" encoding="utf-8"?>
<p:cmLst xmlns:p="http://schemas.openxmlformats.org/presentationml/2006/main">
  <p:cm authorId="0" dt="2008-10-08T18:02:17.691000000" idx="25">
    <p:pos x="2703" y="2352"/>
    <p:text>The implementing regulation has direct effect and so did not require transposition</p:text>
  </p:cm>
</p:cmLst>
</file>

<file path=ppt/comments/comment19.xml><?xml version="1.0" encoding="utf-8"?>
<p:cmLst xmlns:p="http://schemas.openxmlformats.org/presentationml/2006/main">
  <p:cm authorId="0" dt="2008-10-08T18:07:51.942000000" idx="26">
    <p:pos x="5149" y="2337"/>
    <p:text>If the FSA proposes to publish a statement or impose a penalty, it must give the authorised person concerned (i) a warning notice about a proposal to publish a statement setting out the terms of the statement and (ii) a warning notice about a proposal to impose a penalty stating the amount of the penalty
If the FSA decides to publish a statement or impose a penalty, it must give the authorised person concerned (i) a decision notice about a proposal to publish a statement setting out the terms of the statement and (ii) a decision notice about a proposal to impose a penalty stating the amount of the penalty
If the FSA decides to publish a statement or impose a penalty the authorised person concerned may refer the matter to the Tribunal
</p:text>
  </p:cm>
  <p:cm authorId="0" dt="2008-10-08T18:08:44.812000000" idx="27">
    <p:pos x="3699" y="2787"/>
    <p:text>Some powers concerning directions and recognition orders and are exercised by the Treasury which issues statements whenever it exercises said powers</p:text>
  </p:cm>
</p:cmLst>
</file>

<file path=ppt/comments/comment20.xml><?xml version="1.0" encoding="utf-8"?>
<p:cmLst xmlns:p="http://schemas.openxmlformats.org/presentationml/2006/main">
  <p:cm authorId="1" dt="2008-10-13T17:41:51.771000000" idx="1">
    <p:pos x="3708" y="3178"/>
    <p:text>Threshold conditions are set out in FSMA and include: legal status; location of offices; close links (that might prevent effective supervision); adequate resources; and suitability</p:text>
  </p:cm>
</p:cmLst>
</file>

<file path=ppt/comments/comment26.xml><?xml version="1.0" encoding="utf-8"?>
<p:cmLst xmlns:p="http://schemas.openxmlformats.org/presentationml/2006/main">
  <p:cm authorId="0" dt="2008-10-08T18:11:20.515000000" idx="28">
    <p:pos x="3375" y="3550"/>
    <p:text>When the FSA decides whether to commence criminal proceedings rather than impose a sanction for market abuse in relation to that misconduct, it will
apply the basic principles set out in the Code for Crown Prosecutors
It is the FSA's policy not to impose a sanction for market abuse where a person is being prosecuted for market misconduct or has been finally convicted or acquitted of market misconduct (following the exhaustion of all appeal processes) in a criminal prosecution arising from substantially the same allegations. Similarly, it is the FSA's policy not to commence a prosecution for market misconduct where the FSA has brought or is seeking to bring disciplinary proceedings for market abuse arising from
substantially the same allegations</p:text>
  </p:cm>
</p:cmLst>
</file>

<file path=ppt/comments/comment27.xml><?xml version="1.0" encoding="utf-8"?>
<p:cmLst xmlns:p="http://schemas.openxmlformats.org/presentationml/2006/main">
  <p:cm authorId="0" dt="2008-10-09T13:31:05.892000000" idx="29">
    <p:pos x="5306" y="1793"/>
    <p:text>If the FSA refuses the recognition, it must provide reasons and specify a reasonable period within which the UCITS may make representations
If the application file for the registration is incomplete, the FSA will give the UCITS up to 6 months to submit the missing documents. Failure to provide the missing documents within said time period will require the UCITS to submit a new application file</p:text>
  </p:cm>
</p:cmLst>
</file>

<file path=ppt/comments/comment4.xml><?xml version="1.0" encoding="utf-8"?>
<p:cmLst xmlns:p="http://schemas.openxmlformats.org/presentationml/2006/main">
  <p:cm authorId="0" dt="2008-10-09T10:14:49.631000000" idx="1">
    <p:pos x="1724" y="1799"/>
    <p:text>
Her Majesty's Treasury is the department responsible for formulating and putting into effect the UK Government's financial and economic policy
The Treasury’s overall aim is to raise the rate of sustainable growth, and achieve rising prosperity, through creating economic and employment opportunities for all
The HM Treasury is inter alia competent for the followin areas: (i) Financial Services in the EU, (ii) Banking and (iii) Financial Sanctions (at the international level)
With reference to point (iii) above, the Foreign and Commonwealth Office (FCO) is responsible for overall policy on international sanctions including the scope and content of international sanction regimes. HM Treasury is responsible for the implementation and administration of international financial sanctions in the UK, for domestic designation (principally under the Terrorism Order) and for licensing exemptions to financial sanctions. The Department for Business, Enterprise and Regulatory Reform is the UK department responsible for trade sanctions</p:text>
  </p:cm>
  <p:cm authorId="0" dt="2008-10-08T17:33:53.355000000" idx="2">
    <p:pos x="3419" y="2234"/>
    <p:text>
The FSA is an independent body that regulates the financial services industry in the UK 
On 1 December 2001 the FSA assumed its full powers and responsibilities under the Financial Services and Markets Act 2000
</p:text>
  </p:cm>
  <p:cm authorId="0" dt="2008-10-08T17:34:47.849000000" idx="3">
    <p:pos x="2021" y="2692"/>
    <p:text>The Bank of England is the UK's central bank 
The Bank was founded in 1694, nationalised in 1946, and gained operational independence in 1997 
Standing at the centre of the UK's financial system, the Bank is committed to promoting and maintaining a stable and efficient monetary and financial framework as its contribution to a healthy economy</p:text>
  </p:cm>
</p:cmLst>
</file>

<file path=ppt/comments/comment6.xml><?xml version="1.0" encoding="utf-8"?>
<p:cmLst xmlns:p="http://schemas.openxmlformats.org/presentationml/2006/main">
  <p:cm authorId="0" dt="2008-10-08T17:41:03.355000000" idx="4">
    <p:pos x="4360" y="1378"/>
    <p:text>Regulation 12 states inter alia that:
"(1) The [Office of Fair Trading] or [...] any qualifying body may apply for an injunction (including an interim injunction) against any person appearing to them to be using, or recommending the use of, an unfair term drawn up for general use in contracts concluded with consumers.
(3) The court, on an application under this regulation, may grant an injunction on such
terms as it thinks fit."
The FSA is a qualifying body for the purposes of regulation 12</p:text>
  </p:cm>
</p:cmLst>
</file>

<file path=ppt/comments/comment7.xml><?xml version="1.0" encoding="utf-8"?>
<p:cmLst xmlns:p="http://schemas.openxmlformats.org/presentationml/2006/main">
  <p:cm authorId="0" dt="2008-10-08T17:43:28.465000000" idx="5">
    <p:pos x="1873" y="1349"/>
    <p:text>The effectiveness of the regulatory regime depends to a significant extent on maintaining an open and co-operative relationship between the FSA and those it regulates</p:text>
  </p:cm>
  <p:cm authorId="0" dt="2008-10-08T17:43:50.457000000" idx="6">
    <p:pos x="2043" y="2094"/>
    <p:text>The FSA will seek to exercise its enforcement powers in a manner that is transparent, proportionate, responsive to the issue, and consistent with its publicly stated policies</p:text>
  </p:cm>
  <p:cm authorId="0" dt="2008-10-08T17:44:11.902000000" idx="7">
    <p:pos x="1923" y="2588"/>
    <p:text>The FSA will seek to ensure fair treatment when exercising its enforcement powers</p:text>
  </p:cm>
  <p:cm authorId="0" dt="2008-10-08T17:44:40.756000000" idx="8">
    <p:pos x="5042" y="3501"/>
    <p:text>The FSA will aim to change the behaviour of the person who is the subject of its action, to deter future non-compliance by others, to eliminate any financial gain or benefit from non-compliance, and where appropriate, to remedy the harm caused by the non-compliance</p:text>
  </p:cm>
</p:cmLst>
</file>

<file path=ppt/comments/comment8.xml><?xml version="1.0" encoding="utf-8"?>
<p:cmLst xmlns:p="http://schemas.openxmlformats.org/presentationml/2006/main">
  <p:cm authorId="0" dt="2008-10-08T17:47:14.780000000" idx="9">
    <p:pos x="5426" y="3369"/>
    <p:text>The proactive supervision and monitoring of firms, and an open and cooperative relationship between firms and their supervisors, will, in some cases where a contravention has taken place, lead the FSA to decide against taking formal disciplinary action. 
However, in those cases, the FSA will expect the firm to act promptly in taking the necessary remedial action agreed with its supervisors to deal with the FSA's concerns. 
If the firm does not do this, the FSA may take disciplinary or other enforcement action in respect of the original contravention</p:text>
  </p:cm>
</p:cmLst>
</file>

<file path=ppt/comments/comment9.xml><?xml version="1.0" encoding="utf-8"?>
<p:cmLst xmlns:p="http://schemas.openxmlformats.org/presentationml/2006/main">
  <p:cm authorId="0" dt="2008-10-08T17:48:39.709000000" idx="10">
    <p:pos x="5263" y="2684"/>
    <p:text>The FSA’s choice as to the use of the enforcement tool is therefore a question of how the FSA uses its resources effectively and efficiently and how it ensures that it is an effective regulator</p:text>
  </p:cm>
  <p:cm authorId="0" dt="2008-10-08T17:49:21.274000000" idx="11">
    <p:pos x="3788" y="3504"/>
    <p:text>In cases where other authorities have an interest, action before or following an investigation may include, for example, referring some issues or information to other authorities for consideration, including where another authority appears to be better placed to take action 
For example, when considering whether to use its powers to conduct formal investigations into market misconduct, the FSA will take into account whether another regulatory authority is in a position to investigate and deal with the matters of concern
Equally, in some cases, the FSA may investigate and/or take action in parallel with another domestic or international authority</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imes New Roman"/>
            </a:endParaRPr>
          </a:p>
        </p:txBody>
      </p:sp>
      <p:sp>
        <p:nvSpPr>
          <p:cNvPr id="85" name="PlaceHolder 1"/>
          <p:cNvSpPr>
            <a:spLocks noGrp="1"/>
          </p:cNvSpPr>
          <p:nvPr>
            <p:ph type="hdr"/>
          </p:nvPr>
        </p:nvSpPr>
        <p:spPr>
          <a:xfrm>
            <a:off x="0" y="-360"/>
            <a:ext cx="296064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73600" y="-360"/>
            <a:ext cx="288288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96760" y="75996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move the slide</a:t>
            </a:r>
            <a:endParaRPr b="0" lang="en-US" sz="1400" spc="-1" strike="noStrike">
              <a:solidFill>
                <a:srgbClr val="ffffff"/>
              </a:solidFill>
              <a:latin typeface="Arial"/>
            </a:endParaRPr>
          </a:p>
        </p:txBody>
      </p:sp>
      <p:sp>
        <p:nvSpPr>
          <p:cNvPr id="88" name="PlaceHolder 4"/>
          <p:cNvSpPr>
            <a:spLocks noGrp="1"/>
          </p:cNvSpPr>
          <p:nvPr>
            <p:ph type="body"/>
          </p:nvPr>
        </p:nvSpPr>
        <p:spPr>
          <a:xfrm>
            <a:off x="911160" y="4713120"/>
            <a:ext cx="4934160" cy="4484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0" y="9426600"/>
            <a:ext cx="2960640" cy="4557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73600" y="9426600"/>
            <a:ext cx="2882880" cy="4557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2FC663-D9D7-4CA4-A9DD-4C79C955E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6760" y="760320"/>
            <a:ext cx="4965840" cy="3724200"/>
          </a:xfrm>
          <a:prstGeom prst="rect">
            <a:avLst/>
          </a:prstGeom>
          <a:ln w="0">
            <a:noFill/>
          </a:ln>
        </p:spPr>
      </p:sp>
      <p:sp>
        <p:nvSpPr>
          <p:cNvPr id="178" name="PlaceHolder 2"/>
          <p:cNvSpPr>
            <a:spLocks noGrp="1"/>
          </p:cNvSpPr>
          <p:nvPr>
            <p:ph type="body"/>
          </p:nvPr>
        </p:nvSpPr>
        <p:spPr>
          <a:xfrm>
            <a:off x="911160" y="4713120"/>
            <a:ext cx="493416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9" name="Segnaposto numero diapositiva 3"/>
          <p:cNvSpPr/>
          <p:nvPr/>
        </p:nvSpPr>
        <p:spPr>
          <a:xfrm>
            <a:off x="3873600" y="9426600"/>
            <a:ext cx="2882880" cy="4557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2040BCB-D364-499C-99DB-60A5ADED45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9EEA7-9E53-4C2B-B37F-F9AD6F3DD9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0"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AA0B98D5-A6C7-43A0-A525-963412381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4"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5"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 name="PlaceHolder 6"/>
          <p:cNvSpPr>
            <a:spLocks noGrp="1"/>
          </p:cNvSpPr>
          <p:nvPr>
            <p:ph type="sldNum" idx="1"/>
          </p:nvPr>
        </p:nvSpPr>
        <p:spPr/>
        <p:txBody>
          <a:bodyPr/>
          <a:p>
            <a:fld id="{67D002C5-37AB-4102-AD87-37F456A7ED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8"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9"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0"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1"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2"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 name="PlaceHolder 8"/>
          <p:cNvSpPr>
            <a:spLocks noGrp="1"/>
          </p:cNvSpPr>
          <p:nvPr>
            <p:ph type="sldNum" idx="1"/>
          </p:nvPr>
        </p:nvSpPr>
        <p:spPr/>
        <p:txBody>
          <a:bodyPr/>
          <a:p>
            <a:fld id="{8309D01C-5FD9-4D13-AA34-CD0FE73AF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9"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3"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4"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8"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9"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0"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FA856867-939D-4DDA-9613-B23B0C2708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4"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7"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8"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0"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1"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4"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5"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6"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8"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9"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0"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1"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2"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3"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3F5C7C91-AC03-46AB-9863-9F2378C12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23129E8F-71AD-46B7-82EC-3864D9419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03494CF9-81F8-4110-9F1B-3B756B1953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 name="PlaceHolder 2"/>
          <p:cNvSpPr>
            <a:spLocks noGrp="1"/>
          </p:cNvSpPr>
          <p:nvPr>
            <p:ph type="sldNum" idx="1"/>
          </p:nvPr>
        </p:nvSpPr>
        <p:spPr/>
        <p:txBody>
          <a:bodyPr/>
          <a:p>
            <a:fld id="{1CCA70BE-6FDE-4E9B-8E69-CAE8351E7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8"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9"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F0667723-F976-4759-84F8-D903EDDDE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2"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3"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D7A8D60F-8D9C-4CDE-9B43-69B300490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6"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7"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BFBD58D5-DB45-426D-80AD-D1D096400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0" name="Rectangle 9"/>
          <p:cNvSpPr/>
          <p:nvPr/>
        </p:nvSpPr>
        <p:spPr>
          <a:xfrm>
            <a:off x="0" y="0"/>
            <a:ext cx="82692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2"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
        <p:nvSpPr>
          <p:cNvPr id="3" name="PlaceHolder 3"/>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46A1-C220-4105-A64E-53916FDF49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Picture 19" descr="PPA"/>
          <p:cNvPicPr/>
          <p:nvPr/>
        </p:nvPicPr>
        <p:blipFill>
          <a:blip r:embed="rId2"/>
          <a:stretch/>
        </p:blipFill>
        <p:spPr>
          <a:xfrm>
            <a:off x="34920" y="5734080"/>
            <a:ext cx="757080" cy="1076400"/>
          </a:xfrm>
          <a:prstGeom prst="rect">
            <a:avLst/>
          </a:prstGeom>
          <a:ln w="0">
            <a:noFill/>
          </a:ln>
        </p:spPr>
      </p:pic>
      <p:sp>
        <p:nvSpPr>
          <p:cNvPr id="5" name="Rectangle 22"/>
          <p:cNvSpPr/>
          <p:nvPr/>
        </p:nvSpPr>
        <p:spPr>
          <a:xfrm rot="16200000">
            <a:off x="-1908720" y="3140280"/>
            <a:ext cx="4608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 name="Rectangle 24"/>
          <p:cNvSpPr/>
          <p:nvPr/>
        </p:nvSpPr>
        <p:spPr>
          <a:xfrm rot="16200000">
            <a:off x="-1981080" y="3213000"/>
            <a:ext cx="446400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pic>
        <p:nvPicPr>
          <p:cNvPr id="43" name="Picture 15" descr="PPA"/>
          <p:cNvPicPr/>
          <p:nvPr/>
        </p:nvPicPr>
        <p:blipFill>
          <a:blip r:embed="rId2"/>
          <a:stretch/>
        </p:blipFill>
        <p:spPr>
          <a:xfrm>
            <a:off x="4356000" y="0"/>
            <a:ext cx="4821480" cy="6858000"/>
          </a:xfrm>
          <a:prstGeom prst="rect">
            <a:avLst/>
          </a:prstGeom>
          <a:ln w="0">
            <a:noFill/>
          </a:ln>
        </p:spPr>
      </p:pic>
      <p:sp>
        <p:nvSpPr>
          <p:cNvPr id="44" name="Rectangle 7"/>
          <p:cNvSpPr/>
          <p:nvPr/>
        </p:nvSpPr>
        <p:spPr>
          <a:xfrm>
            <a:off x="-36360" y="0"/>
            <a:ext cx="86328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 name="Text Box 10"/>
          <p:cNvSpPr/>
          <p:nvPr/>
        </p:nvSpPr>
        <p:spPr>
          <a:xfrm rot="16200000">
            <a:off x="-2731320" y="3472200"/>
            <a:ext cx="619308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47"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92360" y="2276280"/>
            <a:ext cx="5796000" cy="136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HENS WORKSHOP</a:t>
            </a:r>
            <a:r>
              <a:rPr b="0" lang="it-IT" sz="1200" spc="-1" strike="noStrike">
                <a:solidFill>
                  <a:srgbClr val="ffffff"/>
                </a:solidFill>
                <a:latin typeface="Arial"/>
              </a:rPr>
              <a:t> </a:t>
            </a:r>
            <a:br>
              <a:rPr sz="1200"/>
            </a:br>
            <a:r>
              <a:rPr b="0" lang="it-IT" sz="2000" spc="-1" strike="noStrike">
                <a:solidFill>
                  <a:srgbClr val="ffffff"/>
                </a:solidFill>
                <a:latin typeface="Arial"/>
              </a:rPr>
              <a:t>17</a:t>
            </a:r>
            <a:r>
              <a:rPr b="0" lang="it-IT" sz="2000" spc="-1" strike="noStrike" baseline="30000">
                <a:solidFill>
                  <a:srgbClr val="ffffff"/>
                </a:solidFill>
                <a:latin typeface="Arial"/>
              </a:rPr>
              <a:t>th</a:t>
            </a:r>
            <a:r>
              <a:rPr b="0" lang="it-IT" sz="2000" spc="-1" strike="noStrike">
                <a:solidFill>
                  <a:srgbClr val="ffffff"/>
                </a:solidFill>
                <a:latin typeface="Arial"/>
              </a:rPr>
              <a:t> </a:t>
            </a:r>
            <a:r>
              <a:rPr b="0" lang="en-GB" sz="2000" spc="-1" strike="noStrike">
                <a:solidFill>
                  <a:srgbClr val="ffffff"/>
                </a:solidFill>
                <a:latin typeface="Arial"/>
              </a:rPr>
              <a:t> October</a:t>
            </a:r>
            <a:r>
              <a:rPr b="0" lang="it-IT" sz="2000" spc="-1" strike="noStrike">
                <a:solidFill>
                  <a:srgbClr val="ffffff"/>
                </a:solidFill>
                <a:latin typeface="Arial"/>
              </a:rPr>
              <a:t> 2008</a:t>
            </a:r>
            <a:br>
              <a:rPr sz="2000"/>
            </a:br>
            <a:br>
              <a:rPr sz="1200"/>
            </a:br>
            <a:br>
              <a:rPr sz="1200"/>
            </a:br>
            <a:br>
              <a:rPr sz="1200"/>
            </a:br>
            <a:br>
              <a:rPr sz="1200"/>
            </a:br>
            <a:r>
              <a:rPr b="1" lang="en-US" sz="2200" spc="-1" strike="noStrike">
                <a:solidFill>
                  <a:srgbClr val="ffffff"/>
                </a:solidFill>
                <a:latin typeface="Arial"/>
              </a:rPr>
              <a:t>SANCTIONS AND MEASURES PROVIDED IN EUROPEAN JURISDICTIONS TO COMPLY WITH EU BANKING AND CAPITAL MARKETS NATIONAL LAW</a:t>
            </a:r>
            <a:r>
              <a:rPr b="1" lang="it-IT" sz="2200" spc="-1" strike="noStrike">
                <a:solidFill>
                  <a:srgbClr val="ffffff"/>
                </a:solidFill>
                <a:latin typeface="Arial"/>
              </a:rPr>
              <a:t> </a:t>
            </a:r>
            <a:br>
              <a:rPr sz="2200"/>
            </a:br>
            <a:br>
              <a:rPr sz="1200"/>
            </a:br>
            <a:br>
              <a:rPr sz="1200"/>
            </a:br>
            <a:br>
              <a:rPr sz="1200"/>
            </a:br>
            <a:r>
              <a:rPr b="1" lang="en-GB" sz="2000" spc="-1" strike="noStrike">
                <a:solidFill>
                  <a:srgbClr val="ffffff"/>
                </a:solidFill>
                <a:latin typeface="Arial"/>
              </a:rPr>
              <a:t>Sanctions and measures provided in the banking and the capital markets law</a:t>
            </a:r>
            <a:r>
              <a:rPr b="1" lang="it-IT" sz="2000" spc="-1" strike="noStrike">
                <a:solidFill>
                  <a:srgbClr val="ffffff"/>
                </a:solidFill>
                <a:latin typeface="Arial"/>
              </a:rPr>
              <a:t> in UK</a:t>
            </a:r>
            <a:br>
              <a:rPr sz="2000"/>
            </a:br>
            <a:br>
              <a:rPr sz="1200"/>
            </a:br>
            <a:br>
              <a:rPr sz="1200"/>
            </a:br>
            <a:br>
              <a:rPr sz="1200"/>
            </a:br>
            <a:r>
              <a:rPr b="1" i="1" lang="en-GB" sz="1200" spc="-1" strike="noStrike">
                <a:solidFill>
                  <a:srgbClr val="ffffff"/>
                </a:solidFill>
                <a:latin typeface="Arial"/>
              </a:rPr>
              <a:t>	</a:t>
            </a:r>
            <a:r>
              <a:rPr b="1" i="1" lang="en-GB" sz="1200" spc="-1" strike="noStrike">
                <a:solidFill>
                  <a:srgbClr val="ffffff"/>
                </a:solidFill>
                <a:latin typeface="Arial"/>
              </a:rPr>
              <a:t>	</a:t>
            </a:r>
            <a:r>
              <a:rPr b="1" i="1" lang="en-GB" sz="1200" spc="-1" strike="noStrike">
                <a:solidFill>
                  <a:srgbClr val="ffffff"/>
                </a:solidFill>
                <a:latin typeface="Arial"/>
              </a:rPr>
              <a:t>           </a:t>
            </a:r>
            <a:br>
              <a:rPr sz="1200"/>
            </a:br>
            <a:endParaRPr b="0" lang="en-US" sz="1200" spc="-1" strike="noStrike">
              <a:solidFill>
                <a:srgbClr val="ffffff"/>
              </a:solidFill>
              <a:latin typeface="Arial"/>
            </a:endParaRPr>
          </a:p>
        </p:txBody>
      </p:sp>
      <p:sp>
        <p:nvSpPr>
          <p:cNvPr id="92" name="PlaceHolder 2"/>
          <p:cNvSpPr>
            <a:spLocks noGrp="1"/>
          </p:cNvSpPr>
          <p:nvPr>
            <p:ph type="subTitle"/>
          </p:nvPr>
        </p:nvSpPr>
        <p:spPr>
          <a:xfrm>
            <a:off x="0" y="5229000"/>
            <a:ext cx="9144000" cy="43164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lin Jamieson</a:t>
            </a:r>
            <a:endParaRPr b="0" lang="en-US" sz="1800" spc="-1" strike="noStrike">
              <a:solidFill>
                <a:srgbClr val="664c35"/>
              </a:solidFill>
              <a:latin typeface="Arial"/>
            </a:endParaRPr>
          </a:p>
        </p:txBody>
      </p:sp>
      <p:pic>
        <p:nvPicPr>
          <p:cNvPr id="93" name="Immagine 5" descr="pirola&amp;ab.jpg"/>
          <p:cNvPicPr/>
          <p:nvPr/>
        </p:nvPicPr>
        <p:blipFill>
          <a:blip r:embed="rId1"/>
          <a:stretch/>
        </p:blipFill>
        <p:spPr>
          <a:xfrm>
            <a:off x="38160" y="44280"/>
            <a:ext cx="785880" cy="673200"/>
          </a:xfrm>
          <a:prstGeom prst="rect">
            <a:avLst/>
          </a:prstGeom>
          <a:ln w="0">
            <a:noFill/>
          </a:ln>
        </p:spPr>
      </p:pic>
      <p:pic>
        <p:nvPicPr>
          <p:cNvPr id="94" name="Picture 7" descr="M:\Loghi\Agnoli\logoAB5.jpg"/>
          <p:cNvPicPr/>
          <p:nvPr/>
        </p:nvPicPr>
        <p:blipFill>
          <a:blip r:embed="rId2"/>
          <a:stretch/>
        </p:blipFill>
        <p:spPr>
          <a:xfrm>
            <a:off x="38160" y="6432480"/>
            <a:ext cx="665280" cy="3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Principles for Businesses</a:t>
            </a:r>
            <a:endParaRPr b="0" lang="en-US" sz="3600" spc="-1" strike="noStrike">
              <a:solidFill>
                <a:srgbClr val="ffffff"/>
              </a:solidFill>
              <a:latin typeface="Arial"/>
            </a:endParaRPr>
          </a:p>
        </p:txBody>
      </p:sp>
      <p:sp>
        <p:nvSpPr>
          <p:cNvPr id="12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s approach to regulation involves a combination of high-level principles and detailed rules and guidance</a:t>
            </a:r>
            <a:endParaRPr b="0" lang="en-US" sz="2400" spc="-1" strike="noStrike">
              <a:solidFill>
                <a:srgbClr val="664c35"/>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 is moving towards a more principles-based approach</a:t>
            </a:r>
            <a:endParaRPr b="0" lang="en-US" sz="2400" spc="-1" strike="noStrike">
              <a:solidFill>
                <a:srgbClr val="664c35"/>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 determine whether there has been a failure to comply with a Principle, the standards to apply are those required by the Principles for Businesses at the time the conduct took place</a:t>
            </a:r>
            <a:endParaRPr b="0" lang="en-US" sz="2400" spc="-1" strike="noStrike">
              <a:solidFill>
                <a:srgbClr val="664c35"/>
              </a:solidFill>
              <a:latin typeface="Arial"/>
            </a:endParaRPr>
          </a:p>
        </p:txBody>
      </p:sp>
      <p:pic>
        <p:nvPicPr>
          <p:cNvPr id="12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9A995BCB-6FE9-4E2B-A1DC-73BCBE1A8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cision making in the context of regulatory enforcement action - Appeals against decisions</a:t>
            </a:r>
            <a:endParaRPr b="0" lang="en-US" sz="2800" spc="-1" strike="noStrike">
              <a:solidFill>
                <a:srgbClr val="ffffff"/>
              </a:solidFill>
              <a:latin typeface="Arial"/>
            </a:endParaRPr>
          </a:p>
        </p:txBody>
      </p:sp>
      <p:sp>
        <p:nvSpPr>
          <p:cNvPr id="12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the FSA is proposing to exercise its regulatory enforcement powers, it gives statutory notices (depending on the nature of the action, a warning notice and decision notice or supervisory notice) to the subject of the action</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cisions to issue supervisory notices in contested enforcement cases are generally taken by the RDC</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person who receives a decision notice or supervisory notice has a right to refer the matter to the Financial Markets and Services Tribunal (the Tribunal) within prescribed time limits</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2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C3EA420A-8912-47F2-9204-D6F5EF908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ncial Services and Markets Tribunal</a:t>
            </a:r>
            <a:endParaRPr b="0" lang="en-US" sz="3200" spc="-1" strike="noStrike">
              <a:solidFill>
                <a:srgbClr val="ffffff"/>
              </a:solidFill>
              <a:latin typeface="Arial"/>
            </a:endParaRPr>
          </a:p>
        </p:txBody>
      </p:sp>
      <p:sp>
        <p:nvSpPr>
          <p:cNvPr id="12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ribunal </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s an independent judicial body established under FSMA</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under the supervision of the Council on Tribunals</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ars references arising from certain decisions and supervisory notices issued by the FSA which may cover a wide range of regulatory and disciplinary matters (e.g. penalties for market abuse, disciplinary measures)</a:t>
            </a:r>
            <a:endParaRPr b="0" lang="en-US" sz="1800" spc="-1" strike="noStrike">
              <a:solidFill>
                <a:srgbClr val="664c35"/>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ference may only be made to the Tribunal if FSMA specifically provides that a person may refer that matter to the Tribunal</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eals against decisions of the Tribunal</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e to the Court of Appeal</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made subject to the relevant Tribunal’s permission </a:t>
            </a:r>
            <a:endParaRPr b="0" lang="en-US" sz="1800" spc="-1" strike="noStrike">
              <a:solidFill>
                <a:srgbClr val="664c35"/>
              </a:solidFill>
              <a:latin typeface="Arial"/>
            </a:endParaRPr>
          </a:p>
        </p:txBody>
      </p:sp>
      <p:pic>
        <p:nvPicPr>
          <p:cNvPr id="12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69BAF31E-D395-4E53-9ACD-7C16BC5E05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urther powers granted to the FSA</a:t>
            </a:r>
            <a:endParaRPr b="0" lang="en-US" sz="3600" spc="-1" strike="noStrike">
              <a:solidFill>
                <a:srgbClr val="ffffff"/>
              </a:solidFill>
              <a:latin typeface="Arial"/>
            </a:endParaRPr>
          </a:p>
        </p:txBody>
      </p:sp>
      <p:sp>
        <p:nvSpPr>
          <p:cNvPr id="13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f information gathering and investigation power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ttlement</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blicity</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p:txBody>
      </p:sp>
      <p:pic>
        <p:nvPicPr>
          <p:cNvPr id="13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2A3937CD-C07A-4723-A793-F55AC6D7B2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FSA’s specific enforcement powers</a:t>
            </a:r>
            <a:endParaRPr b="0" lang="en-US" sz="3600" spc="-1" strike="noStrike">
              <a:solidFill>
                <a:srgbClr val="ffffff"/>
              </a:solidFill>
              <a:latin typeface="Arial"/>
            </a:endParaRPr>
          </a:p>
        </p:txBody>
      </p:sp>
      <p:sp>
        <p:nvSpPr>
          <p:cNvPr id="13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ancial penalties and public censur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ariation and cancellation of permission on the FSA's own initiative and intervention against incoming firm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hibition orders and withdrawal of approval</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junct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titution and redres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secution of criminal offenc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olvency</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lective investment schem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qualification of auditors and actuari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application orders against members of the profess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ions against incoming ECA provider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cellation of approval as a sponsor</a:t>
            </a:r>
            <a:endParaRPr b="0" lang="en-US" sz="2000" spc="-1" strike="noStrike">
              <a:solidFill>
                <a:srgbClr val="664c35"/>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3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940B1857-3E7A-43B1-8880-99414F44C2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77D6-7103-4342-A3CA-CB1025068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3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AA66E3BF-EFF0-4CF4-B433-7E56473D95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U Directives on financial services applicable in the banking and capital markets sector</a:t>
            </a:r>
            <a:endParaRPr b="0" lang="en-US" sz="2800" spc="-1" strike="noStrike">
              <a:solidFill>
                <a:srgbClr val="ffffff"/>
              </a:solidFill>
              <a:latin typeface="Arial"/>
            </a:endParaRPr>
          </a:p>
        </p:txBody>
      </p:sp>
      <p:sp>
        <p:nvSpPr>
          <p:cNvPr id="13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FID Directive 2004/39</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Directive 2006/48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spectus Directive 2003/71</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Directive 2004/109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Abuse Directive 2003/6</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CITS Directive 85/611</a:t>
            </a:r>
            <a:endParaRPr b="0" lang="en-US" sz="2800" spc="-1" strike="noStrike">
              <a:solidFill>
                <a:srgbClr val="664c35"/>
              </a:solidFill>
              <a:latin typeface="Arial"/>
            </a:endParaRPr>
          </a:p>
        </p:txBody>
      </p:sp>
      <p:pic>
        <p:nvPicPr>
          <p:cNvPr id="14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B99345E0-46F0-4FBE-A1B2-7A30248AE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itional detailed provisions were passed under powers in MiFID, i.e. "the implementing directive" (Commission Directive 2006/73/EC of 10 August 2006 implementing Directive 2004/39/EC) and "the implementing regulation“ (Commission Regulation (EC) 1281/2006 of 10 August 2006 implementing Directive 2004/39/EC)</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UK was required to give effect to the directives in its national law by 31 January 2007 and the measures must come into force on 1 November 2007</a:t>
            </a:r>
            <a:endParaRPr b="0" lang="en-US" sz="2400" spc="-1" strike="noStrike">
              <a:solidFill>
                <a:srgbClr val="664c35"/>
              </a:solidFill>
              <a:latin typeface="Arial"/>
            </a:endParaRPr>
          </a:p>
        </p:txBody>
      </p:sp>
      <p:pic>
        <p:nvPicPr>
          <p:cNvPr id="14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8057A5C-6E0D-499C-A2B3-08BDC5592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has responsibility for enforcing MiFID in the UK</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wers that MiFID requires regulators to have are similar to those the FSA already possessed under the FSMA, but in some cases slightly broader and therefore the FSMA has been amended accordingly</a:t>
            </a:r>
            <a:endParaRPr b="0" lang="en-US" sz="2800" spc="-1" strike="noStrike">
              <a:solidFill>
                <a:srgbClr val="664c35"/>
              </a:solidFill>
              <a:latin typeface="Arial"/>
            </a:endParaRPr>
          </a:p>
        </p:txBody>
      </p:sp>
      <p:pic>
        <p:nvPicPr>
          <p:cNvPr id="14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6AC60D88-380C-4BC8-9F00-338CDB363F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8" name="PlaceHolder 2"/>
          <p:cNvSpPr>
            <a:spLocks noGrp="1"/>
          </p:cNvSpPr>
          <p:nvPr>
            <p:ph/>
          </p:nvPr>
        </p:nvSpPr>
        <p:spPr>
          <a:xfrm>
            <a:off x="826920" y="1628280"/>
            <a:ext cx="7871040" cy="4635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rcise of powers in support of overseas regulator</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s and restrictions (with reference to assets requirement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 orders and withdrawal of approval</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ciplinary powers</a:t>
            </a:r>
            <a:endParaRPr b="0" lang="en-US" sz="16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ublic censure (i.e. publication of a statement of misconduct)</a:t>
            </a:r>
            <a:endParaRPr b="0" lang="en-US" sz="12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inancial penalties of amounts that the FSA considers appropriate and payable to the FSA</a:t>
            </a:r>
            <a:endParaRPr b="0" lang="en-US" sz="12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rmation gathering and investigations power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rven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 and revocation of recogni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junctions and restitutions  </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itution of proceedings for offences</a:t>
            </a:r>
            <a:endParaRPr b="0" lang="en-US" sz="16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urthermore the FSA </a:t>
            </a:r>
            <a:r>
              <a:rPr b="0" lang="en-GB" sz="1600" spc="-1" strike="noStrike" u="sng">
                <a:solidFill>
                  <a:srgbClr val="ffffff"/>
                </a:solidFill>
                <a:uFillTx/>
                <a:latin typeface="Arial"/>
              </a:rPr>
              <a:t>may require an institution to suspend or remove financial instruments from trading</a:t>
            </a:r>
            <a:r>
              <a:rPr b="0" lang="en-GB" sz="1600" spc="-1" strike="noStrike">
                <a:solidFill>
                  <a:srgbClr val="ffffff"/>
                </a:solidFill>
                <a:latin typeface="Arial"/>
              </a:rPr>
              <a:t> (the institution concerned may refer the matter to the Tribunal)</a:t>
            </a:r>
            <a:endParaRPr b="0" lang="en-US" sz="1600" spc="-1" strike="noStrike">
              <a:solidFill>
                <a:srgbClr val="664c35"/>
              </a:solidFill>
              <a:latin typeface="Arial"/>
            </a:endParaRPr>
          </a:p>
        </p:txBody>
      </p:sp>
      <p:pic>
        <p:nvPicPr>
          <p:cNvPr id="14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FB0AD544-4B2A-4E78-90C6-72477F5484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89E5-C9EC-449E-8468-7E9949D24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9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8EA1FD67-5186-425C-A8DA-59B883D6B1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inciples of banking stability would require to</a:t>
            </a:r>
            <a:endParaRPr b="0" lang="en-US" sz="16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stability and resilience of the financial system, both in the UK and internationally</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likelihood of individual banks facing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impact if, nevertheless, a bank gets into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 effective compensation arrangements in which consumers have confidence</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Bank of England, and ensure effective coordinated actions by authorities, both in the UK and internationally</a:t>
            </a:r>
            <a:endParaRPr b="0" lang="en-US" sz="1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SA's final rules and guidance implementing the Capital Requirements Directive (i.e. </a:t>
            </a:r>
            <a:r>
              <a:rPr b="0" lang="en-US" sz="1600" spc="-1" strike="noStrike">
                <a:solidFill>
                  <a:srgbClr val="ffffff"/>
                </a:solidFill>
                <a:latin typeface="Arial"/>
              </a:rPr>
              <a:t>2006/48 Banking Directive and 2006/49 Capital Adequacy Directive</a:t>
            </a:r>
            <a:r>
              <a:rPr b="0" lang="en-GB" sz="1600" spc="-1" strike="noStrike">
                <a:solidFill>
                  <a:srgbClr val="ffffff"/>
                </a:solidFill>
                <a:latin typeface="Arial"/>
              </a:rPr>
              <a:t>) in UK came into effect on 1 January 2007</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hould the FSA judge that a bank may breach threshold conditions, or that it is desirable for other reasons to act to protect the interests of consumers, it has a wide range of regulatory powers (e.g. Own Initiative Variation of Permission) and sanctions to require a bank to address the situation</a:t>
            </a:r>
            <a:endParaRPr b="0" lang="en-US" sz="1600" spc="-1" strike="noStrike">
              <a:solidFill>
                <a:srgbClr val="664c35"/>
              </a:solidFill>
              <a:latin typeface="Arial"/>
            </a:endParaRPr>
          </a:p>
        </p:txBody>
      </p:sp>
      <p:pic>
        <p:nvPicPr>
          <p:cNvPr id="15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6C97C13-476C-40EA-B698-D791034CB9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uthorisation</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EU firms passporting under the </a:t>
            </a:r>
            <a:r>
              <a:rPr b="0" lang="en-US" sz="1800" spc="-1" strike="noStrike">
                <a:solidFill>
                  <a:srgbClr val="ffffff"/>
                </a:solidFill>
                <a:latin typeface="Arial"/>
              </a:rPr>
              <a:t>2006/48 Banking Directive into UK,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ies the EU firm of the applicable provisions</a:t>
            </a:r>
            <a:r>
              <a:rPr b="0" lang="en-GB" sz="1600" spc="-1" strike="noStrike">
                <a:solidFill>
                  <a:srgbClr val="ffffff"/>
                </a:solidFill>
                <a:latin typeface="Arial"/>
              </a:rPr>
              <a:t> (when the FSA is informed of the EU firm’s intention to provide cross border service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the green light in order for the EU firm to make a change in the requisites details of its UK branch</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a:t>
            </a:r>
            <a:r>
              <a:rPr b="0" lang="en-GB" sz="1600" spc="-1" strike="noStrike">
                <a:solidFill>
                  <a:srgbClr val="ffffff"/>
                </a:solidFill>
                <a:latin typeface="Arial"/>
              </a:rPr>
              <a:t>UK </a:t>
            </a:r>
            <a:r>
              <a:rPr b="0" lang="en-GB" sz="1800" spc="-1" strike="noStrike">
                <a:solidFill>
                  <a:srgbClr val="ffffff"/>
                </a:solidFill>
                <a:latin typeface="Arial"/>
              </a:rPr>
              <a:t>firms passporting under the </a:t>
            </a:r>
            <a:r>
              <a:rPr b="0" lang="en-US" sz="1800" spc="-1" strike="noStrike">
                <a:solidFill>
                  <a:srgbClr val="ffffff"/>
                </a:solidFill>
                <a:latin typeface="Arial"/>
              </a:rPr>
              <a:t>2006/48 Banking Directive into EU,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responsible together with the Host State for monitoring the liquidity of the relevant EU branch </a:t>
            </a:r>
            <a:endParaRPr b="0" lang="en-US" sz="1600" spc="-1" strike="noStrike">
              <a:solidFill>
                <a:srgbClr val="664c35"/>
              </a:solidFill>
              <a:latin typeface="Arial"/>
            </a:endParaRPr>
          </a:p>
        </p:txBody>
      </p:sp>
      <p:pic>
        <p:nvPicPr>
          <p:cNvPr id="15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61801013-2947-4702-94EB-B616856640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spectus Directive</a:t>
            </a:r>
            <a:endParaRPr b="0" lang="en-US" sz="3600" spc="-1" strike="noStrike">
              <a:solidFill>
                <a:srgbClr val="ffffff"/>
              </a:solidFill>
              <a:latin typeface="Arial"/>
            </a:endParaRPr>
          </a:p>
        </p:txBody>
      </p:sp>
      <p:sp>
        <p:nvSpPr>
          <p:cNvPr id="15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ministrative sanctions can be imposed against persons responsible</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ber States may impose criminal sanctions </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FSA is able to prosecute in respect of the criminal offences provided for by the regulations</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offer to the public</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admission to trading on a regulated market</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estigation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nancial penalties of amounts that the FSA considers appropriate</a:t>
            </a: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5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5F8255A0-5A03-4415-9902-2BAE8B18AD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a:t>
            </a:r>
            <a:endParaRPr b="0" lang="en-US" sz="3600" spc="-1" strike="noStrike">
              <a:solidFill>
                <a:srgbClr val="ffffff"/>
              </a:solidFill>
              <a:latin typeface="Arial"/>
            </a:endParaRPr>
          </a:p>
        </p:txBody>
      </p:sp>
      <p:sp>
        <p:nvSpPr>
          <p:cNvPr id="16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responsible for monitoring compliance with the obligations arising from the transparency rul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endowed with</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respond to breaches of the transparency rules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call for additional information in relation to disclosures required under the Transparency Directive, including the type of information and the parties from whom it can be sought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forcement powers including</a:t>
            </a:r>
            <a:endParaRPr b="0" lang="en-US" sz="18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and prohibition of trading </a:t>
            </a:r>
            <a:endParaRPr b="0" lang="en-US" sz="1600" spc="-1" strike="noStrike">
              <a:solidFill>
                <a:srgbClr val="664c35"/>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have different powers in relation to issuers where the UK is a host member state</a:t>
            </a:r>
            <a:endParaRPr b="0" lang="en-US" sz="2000" spc="-1" strike="noStrike">
              <a:solidFill>
                <a:srgbClr val="664c35"/>
              </a:solidFill>
              <a:latin typeface="Arial"/>
            </a:endParaRPr>
          </a:p>
        </p:txBody>
      </p:sp>
      <p:pic>
        <p:nvPicPr>
          <p:cNvPr id="16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831CB131-60EC-4136-9236-F0A467CBB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is responsible for investigating and prosecuting market abuse in the UK</a:t>
            </a:r>
            <a:endParaRPr b="0" lang="en-US" sz="2800" spc="-1" strike="noStrike">
              <a:solidFill>
                <a:srgbClr val="664c35"/>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UK’s existing regime for market abuse substantially overlapped that in the directive but was not identical to it</a:t>
            </a:r>
            <a:endParaRPr b="0" lang="en-US" sz="2800" spc="-1" strike="noStrike">
              <a:solidFill>
                <a:srgbClr val="664c35"/>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nforcement powers granted to the FSA and the range of sanctions has remained the same under FSMA</a:t>
            </a:r>
            <a:endParaRPr b="0" lang="en-US" sz="2800" spc="-1" strike="noStrike">
              <a:solidFill>
                <a:srgbClr val="664c35"/>
              </a:solidFill>
              <a:latin typeface="Arial"/>
            </a:endParaRPr>
          </a:p>
        </p:txBody>
      </p:sp>
      <p:pic>
        <p:nvPicPr>
          <p:cNvPr id="16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AC30796E-4E9C-48BF-AC9C-2DDC2EF8DD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6"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SMA requires a separation between those investigating possible cases of market abuse and those taking decisions on enforcement action</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vestigation and recommendations for decisions are carried out by FSA staff</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s on enforcement are made by the RDC</a:t>
            </a:r>
            <a:endParaRPr b="0" lang="en-US" sz="2000" spc="-1" strike="noStrike">
              <a:solidFill>
                <a:srgbClr val="664c35"/>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FSA has the power </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impose, on those that have engaged in market abuse, a financial penalty of such an amount as they consider appropriate</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publish a statement  (instead of imposing a penalty) to the effect that a person has engaged in market abuse</a:t>
            </a:r>
            <a:endParaRPr b="0" lang="en-US" sz="2000" spc="-1" strike="noStrike">
              <a:solidFill>
                <a:srgbClr val="664c35"/>
              </a:solidFill>
              <a:latin typeface="Arial"/>
            </a:endParaRPr>
          </a:p>
        </p:txBody>
      </p:sp>
      <p:pic>
        <p:nvPicPr>
          <p:cNvPr id="167"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CFD722AF-1A7C-4A81-8F96-DA6208E7D0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SA’s main powers which automatically imply the infliction of sanctions or which, in the event of non-compliance, may lead to the imposition of sanctions</a:t>
            </a:r>
            <a:endParaRPr b="0" lang="en-US" sz="2800" spc="-1" strike="noStrike">
              <a:solidFill>
                <a:srgbClr val="664c35"/>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ncial penalties and public censure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hibi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junc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titu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minal prosecutions</a:t>
            </a:r>
            <a:endParaRPr b="0" lang="en-US" sz="2800" spc="-1" strike="noStrike">
              <a:solidFill>
                <a:srgbClr val="664c35"/>
              </a:solidFill>
              <a:latin typeface="Arial"/>
            </a:endParaRPr>
          </a:p>
        </p:txBody>
      </p:sp>
      <p:pic>
        <p:nvPicPr>
          <p:cNvPr id="17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975235A-4932-49F5-BF35-DAC0D89330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CITS Directive</a:t>
            </a:r>
            <a:endParaRPr b="0" lang="en-US" sz="3600" spc="-1" strike="noStrike">
              <a:solidFill>
                <a:srgbClr val="ffffff"/>
              </a:solidFill>
              <a:latin typeface="Arial"/>
            </a:endParaRPr>
          </a:p>
        </p:txBody>
      </p:sp>
      <p:sp>
        <p:nvSpPr>
          <p:cNvPr id="17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monised foreign UCITS operates under the provisions of the FSMA</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SA’s main powers concerning harmonised foreign UCITS</a:t>
            </a:r>
            <a:endParaRPr b="0" lang="en-US" sz="20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jection of the recognition (i.e. the application for the registration)</a:t>
            </a:r>
            <a:endParaRPr b="0" lang="en-US" sz="18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spension of the promotion of the UCITS</a:t>
            </a:r>
            <a:endParaRPr b="0" lang="en-US" sz="18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revocations of the directions given (on the FSA’s own initiative or upon request)  </a:t>
            </a:r>
            <a:endParaRPr b="0" lang="en-US" sz="16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bove-mentioned matters may be referred to the Financial Markets and Services Tribunal</a:t>
            </a:r>
            <a:endParaRPr b="0" lang="en-US" sz="2000" spc="-1" strike="noStrike">
              <a:solidFill>
                <a:srgbClr val="664c35"/>
              </a:solidFill>
              <a:latin typeface="Arial"/>
            </a:endParaRPr>
          </a:p>
        </p:txBody>
      </p:sp>
      <p:pic>
        <p:nvPicPr>
          <p:cNvPr id="17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C9DEEB9C-9A9A-4E48-B4BA-AE06B3AAB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l considerations</a:t>
            </a:r>
            <a:endParaRPr b="0" lang="en-US" sz="3200" spc="-1" strike="noStrike">
              <a:solidFill>
                <a:srgbClr val="ffffff"/>
              </a:solidFill>
              <a:latin typeface="Arial"/>
            </a:endParaRPr>
          </a:p>
        </p:txBody>
      </p:sp>
      <p:sp>
        <p:nvSpPr>
          <p:cNvPr id="17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sake of clarity, it may be worth noting that</a:t>
            </a: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resentation has focused on the main powers (including sanctions) granted to the competent Supervisory Authority (i.e. FSA) rather than from the perspective of individual investors </a:t>
            </a:r>
            <a:endParaRPr b="0" lang="en-US" sz="1600" spc="-1" strike="noStrike">
              <a:solidFill>
                <a:srgbClr val="664c35"/>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out of the scope of this presentation, no reference has been made to the Financial Services Act 2008 which </a:t>
            </a:r>
            <a:r>
              <a:rPr b="0" i="1" lang="en-GB" sz="1600" spc="-1" strike="noStrike">
                <a:solidFill>
                  <a:srgbClr val="ffffff"/>
                </a:solidFill>
                <a:latin typeface="Arial"/>
              </a:rPr>
              <a:t>inter alia</a:t>
            </a:r>
            <a:r>
              <a:rPr b="0" lang="en-GB" sz="1600" spc="-1" strike="noStrike">
                <a:solidFill>
                  <a:srgbClr val="ffffff"/>
                </a:solidFill>
                <a:latin typeface="Arial"/>
              </a:rPr>
              <a:t>  </a:t>
            </a:r>
            <a:endParaRPr b="0" lang="en-US" sz="16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als with  the carrying out of some regulated activities (e.g. deposit taking; investment business; any service to a collective investment scheme; corporate services; trust services; any service or activity involving money transmission; any other financial service or financial activity of a specified kind that is carried on by a person of a specified description)</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s for the relevant sanctions</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upervision Commission as competent Supervisory Authority</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ervices Tribunal as body competent for appeals on the matter</a:t>
            </a:r>
            <a:endParaRPr b="0" lang="en-US" sz="14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7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3C9CDA4-0382-4F63-A676-941DAAA06E6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8"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9"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00A8-AC5D-4E86-87BD-881ECFEC4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0"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B64025D7-5559-4A5E-ACBF-CE236EC92E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560" y="274320"/>
            <a:ext cx="785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ffffff"/>
              </a:solidFill>
              <a:latin typeface="Arial"/>
            </a:endParaRPr>
          </a:p>
        </p:txBody>
      </p:sp>
      <p:sp>
        <p:nvSpPr>
          <p:cNvPr id="102" name=""/>
          <p:cNvSpPr txBox="1"/>
          <p:nvPr/>
        </p:nvSpPr>
        <p:spPr>
          <a:xfrm>
            <a:off x="826920" y="1628640"/>
            <a:ext cx="7871040" cy="4321440"/>
          </a:xfrm>
          <a:prstGeom prst="rect">
            <a:avLst/>
          </a:prstGeom>
          <a:noFill/>
          <a:ln w="0">
            <a:noFill/>
          </a:ln>
        </p:spPr>
        <p:txBody>
          <a:bodyPr anchor="t">
            <a:normAutofit fontScale="92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tripartite structure for overseeing the UK financial system</a:t>
            </a:r>
            <a:endParaRPr b="0" lang="en-US" sz="2400" spc="-1" strike="noStrike">
              <a:solidFill>
                <a:srgbClr val="664c35"/>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M Treasury</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inancial Services Authority (FSA)</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ank of England </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above-mentioned Authorities work together to ensure the smooth, efficient and effective running of the UK’s economy and the financial sector. A Memorandum of Understanding established a framework for co-operation between the three Authorities in the field of financial stability</a:t>
            </a:r>
            <a:endParaRPr b="0" lang="en-US" sz="1600" spc="-1" strike="noStrike">
              <a:solidFill>
                <a:srgbClr val="664c35"/>
              </a:solidFill>
              <a:latin typeface="Arial"/>
            </a:endParaRPr>
          </a:p>
          <a:p>
            <a:pPr>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sp>
        <p:nvSpPr>
          <p:cNvPr id="103"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62DA-433F-48BA-899B-CF96B1F001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4" name="Immagine 5" descr="pirola&amp;ab.jpg"/>
          <p:cNvPicPr/>
          <p:nvPr/>
        </p:nvPicPr>
        <p:blipFill>
          <a:blip r:embed="rId1"/>
          <a:stretch/>
        </p:blipFill>
        <p:spPr>
          <a:xfrm>
            <a:off x="38160" y="44280"/>
            <a:ext cx="785880" cy="673200"/>
          </a:xfrm>
          <a:prstGeom prst="rect">
            <a:avLst/>
          </a:prstGeom>
          <a:ln w="0">
            <a:noFill/>
          </a:ln>
        </p:spPr>
      </p:pic>
      <p:sp>
        <p:nvSpPr>
          <p:cNvPr id="3" name="PlaceHolder 2"/>
          <p:cNvSpPr>
            <a:spLocks noGrp="1"/>
          </p:cNvSpPr>
          <p:nvPr>
            <p:ph type="sldNum" idx="1"/>
          </p:nvPr>
        </p:nvSpPr>
        <p:spPr/>
        <p:txBody>
          <a:bodyPr/>
          <a:p>
            <a:fld id="{049E3D2F-056C-4291-9703-055621ACC5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0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6552-023B-49EF-A2CF-0F1BE47628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FBE052BB-8BE1-46C8-91D2-A699CDE68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enforcement powers</a:t>
            </a:r>
            <a:endParaRPr b="0" lang="en-US" sz="3600" spc="-1" strike="noStrike">
              <a:solidFill>
                <a:srgbClr val="ffffff"/>
              </a:solidFill>
              <a:latin typeface="Arial"/>
            </a:endParaRPr>
          </a:p>
        </p:txBody>
      </p:sp>
      <p:sp>
        <p:nvSpPr>
          <p:cNvPr id="10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ain enforcement powers are given to the FSA by the Financial Services and Markets Act 2000 (FSMA) and by regulation 12 of the Unfair Terms in Consumer Contracts Regulations 1999</a:t>
            </a:r>
            <a:endParaRPr b="0" lang="en-US" sz="2000" spc="-1" strike="noStrike">
              <a:solidFill>
                <a:srgbClr val="664c35"/>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s effective and proportionate use of its enforcement powers plays an important role in the pursuit of its regulatory objectives of protecting consumers, maintaining confidence in the financial system, promoting public awareness and reducing financial crime</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a range of enforcement powers, and in any particular enforcement situation, the FSA may need to consider which power to use and whether to use one or more powers</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further enforcement powers and information gathering and investigation powers. The FSA will use the powers where it considers this is appropriate in all the circumstanc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1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3BD47113-316F-4B88-B372-E377AC766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ciples under which the FSA exercises its enforcement powers</a:t>
            </a:r>
            <a:endParaRPr b="0" lang="en-US" sz="3200" spc="-1" strike="noStrike">
              <a:solidFill>
                <a:srgbClr val="ffffff"/>
              </a:solidFill>
              <a:latin typeface="Arial"/>
            </a:endParaRPr>
          </a:p>
        </p:txBody>
      </p:sp>
      <p:sp>
        <p:nvSpPr>
          <p:cNvPr id="11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ffectiveness</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ansparency, proportionality, responsiveness to issues, and consistency</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air treatment</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terring future non-compliance by others, elimination of any financial gain or benefit from non-compliance, remediation of the harm caused by the non-compliance</a:t>
            </a:r>
            <a:endParaRPr b="0" lang="en-US" sz="2400" spc="-1" strike="noStrike">
              <a:solidFill>
                <a:srgbClr val="664c35"/>
              </a:solidFill>
              <a:latin typeface="Arial"/>
            </a:endParaRPr>
          </a:p>
        </p:txBody>
      </p:sp>
      <p:pic>
        <p:nvPicPr>
          <p:cNvPr id="11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8473E50A-AB26-476A-9D00-E38E1FC49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FSA’s enforcement powers and the risk-based approach</a:t>
            </a:r>
            <a:endParaRPr b="0" lang="en-US" sz="3200" spc="-1" strike="noStrike">
              <a:solidFill>
                <a:srgbClr val="ffffff"/>
              </a:solidFill>
              <a:latin typeface="Arial"/>
            </a:endParaRPr>
          </a:p>
        </p:txBody>
      </p:sp>
      <p:sp>
        <p:nvSpPr>
          <p:cNvPr id="11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forcement is only one of a number of regulatory tools available to the FSA</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 a risk based regulator, the FSA prioritises its resources in the areas which pose the biggest threat to its regulatory objectives. This applies as much to the enforcement tool as it does to any other tool available to it</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re a firm or other person has failed to comply with the requirements of FSMA, the rules, or other relevant legislation, it may be appropriate to deal with this without the need for formal disciplinary or other enforcement action</a:t>
            </a:r>
            <a:endParaRPr b="0" lang="en-US" sz="2400" spc="-1" strike="noStrike">
              <a:solidFill>
                <a:srgbClr val="664c35"/>
              </a:solidFill>
              <a:latin typeface="Arial"/>
            </a:endParaRPr>
          </a:p>
        </p:txBody>
      </p:sp>
      <p:pic>
        <p:nvPicPr>
          <p:cNvPr id="11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B1CCAD5-47D3-45B1-9E6D-A827876E8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he FSA’s risk-based approach</a:t>
            </a:r>
            <a:endParaRPr b="0" lang="en-US" sz="4000" spc="-1" strike="noStrike">
              <a:solidFill>
                <a:srgbClr val="ffffff"/>
              </a:solidFill>
              <a:latin typeface="Arial"/>
            </a:endParaRPr>
          </a:p>
        </p:txBody>
      </p:sp>
      <p:sp>
        <p:nvSpPr>
          <p:cNvPr id="118"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selection method for cases involving firms and approved persons, market abuse and listing matters (e.g. breaches of the listing, prospectus or disclosure rules) occurs at two main levels</a:t>
            </a:r>
            <a:endParaRPr b="0" lang="en-US" sz="1600" spc="-1" strike="noStrike">
              <a:solidFill>
                <a:srgbClr val="664c35"/>
              </a:solidFill>
              <a:latin typeface="Arial"/>
            </a:endParaRPr>
          </a:p>
          <a:p>
            <a:pPr lvl="1" marL="743040" indent="-285840" algn="just">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rategic planning; and</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cisions on individual cases</a:t>
            </a:r>
            <a:endParaRPr b="0" lang="en-US" sz="1400" spc="-1" strike="noStrike">
              <a:solidFill>
                <a:srgbClr val="664c35"/>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 will take enforcement action in serious cases where such action is necessary, ad hoc cases of particular significance in a markets, consumer protection or financial crime context, or cases that the FSA thinks are necessary to achieve effective deterrence</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s risk-based approach to enforcement means that certain cases will be subject to enforcement action and others not, even where they may be similar in nature or impact </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fore it proceeds with an investigation, the FSA will consider whether using alternative tools is more appropriate taking into account the overall circumstances of the person or firm concerned and the wider context. Another consideration will be whether the FSA is under a Community obligation to take action on behalf of, or otherwise to provide assistance to, an authority from another EU member state</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pic>
        <p:nvPicPr>
          <p:cNvPr id="11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C1C6F2BA-6689-4BB5-BB6B-17FE64804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12:45:22Z</dcterms:created>
  <dc:creator>.</dc:creator>
  <dc:description/>
  <dc:language>en-US</dc:language>
  <cp:lastModifiedBy>d.tsibanoulis</cp:lastModifiedBy>
  <cp:lastPrinted>2007-02-06T11:05:25Z</cp:lastPrinted>
  <dcterms:modified xsi:type="dcterms:W3CDTF">2008-10-14T08:53:42Z</dcterms:modified>
  <cp:revision>362</cp:revision>
  <dc:subject/>
  <dc:title> </dc:title>
</cp:coreProperties>
</file>